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4920-D1F4-464C-A364-1E56CCAB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EC4F-0640-4008-A88F-0147A4AB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65F1-0118-46BF-B85A-828758F8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C986-A061-40E8-AD5A-947C7C6A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8B45-2425-487B-8539-64D2F1CD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EE1E-917C-4BD9-8E6B-BAF853A4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5759-FF32-44C7-AE84-7DD8E92C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CBFF-F028-42D8-9773-DFEB9226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E265-EE01-4489-A021-3CF4813A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0EA3-1300-4D3A-AE26-BD9DADD5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35A9-C053-417C-A401-93B2594D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46B3-E2BD-404D-A6A0-58C7B841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5B37-6C36-4A46-A314-8775BC8B570E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9320-3986-47E8-9154-BC555FD5D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Chapter 2: The Fundamentals: Algorithms, The Integers and Matrices 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2.3: Integers and Divis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4: Integers and Algorithm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: Applications of Number Theory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FB96-74EC-4F0E-9959-8D42F8AA5E6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3983E-47D3-481B-AAE0-E444C55F31E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2.3: Integers and Division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4343400"/>
            <a:ext cx="792468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 prime factorizations of 120 and 500 are 120 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3 * 5 and 500 =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eatest common divisor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cd(120,500) 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in(3,2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in(1,0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in(1,3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3520" y="1476360"/>
            <a:ext cx="8076960" cy="2652120"/>
            <a:chOff x="533520" y="1476360"/>
            <a:chExt cx="8076960" cy="265212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2080800" y="1531800"/>
                  <a:ext cx="4600440" cy="220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</m:t>
                          </m:r>
                          <m:r>
                            <m:t xml:space="preserve">a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p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p>
                              </m:sSup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p>
                              </m:sSup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sup>
                              </m:sSup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b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p>
                              </m:sSup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p>
                              </m:sSup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sup>
                              </m:sSup>
                            </m:sub>
                          </m:sSub>
                          <m:r>
                            <m:t xml:space="preserve">,</m:t>
                          </m:r>
                        </m:e>
                        <m:e/>
                        <m:e/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</m:t>
                          </m:r>
                          <m:r>
                            <m:rPr>
                              <m:lit/>
                              <m:nor/>
                            </m:rPr>
                            <m:t xml:space="preserve">gcd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1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in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sup>
                              </m:sSup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in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sup>
                              </m:sSup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n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in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,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97" name=""/>
            <p:cNvSpPr/>
            <p:nvPr/>
          </p:nvSpPr>
          <p:spPr>
            <a:xfrm>
              <a:off x="533520" y="1476360"/>
              <a:ext cx="8076960" cy="26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uppose that the prime factorization of the integers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neither equal to zero, 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each exponent is a nonnegative integer, and where all primes occurring in th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ime factorization of eith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e included in both factorization, with zer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ponents if necessary. Then gcd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is given b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min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 represents the minimum of the two numbers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668A-EE96-4405-B7CA-402C3BE1E89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99270-07BC-442C-BA79-EF0BE9D594E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2.3: Integers and Division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1905120"/>
            <a:ext cx="7162560" cy="7617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st common multip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positive integer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noted b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cm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the smallest positive integer that is divisible by bo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5181480"/>
            <a:ext cx="7162560" cy="7621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positive integers. Then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gcd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. lcm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0560" y="1498680"/>
            <a:ext cx="309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Tahoma"/>
              </a:rPr>
              <a:t>Least Common Multi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600200" y="2954160"/>
                <a:ext cx="577836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m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838080" y="3733920"/>
            <a:ext cx="77724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ast common multiple of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cm(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ax(3,4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ax(5,3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ax(2,0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984A-C9F3-43E7-90C7-AA0D4B4C3BB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CEE54-24E8-4721-93E5-DEB2F582B07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2.3: Integers and Division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1447920"/>
            <a:ext cx="7162560" cy="7617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an integer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a positive integer. We denote by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ainder when a is divided by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427120"/>
            <a:ext cx="77724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= 2, –133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 = 2, and 2001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1 = 8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990720" y="3276720"/>
            <a:ext cx="7162560" cy="1143000"/>
            <a:chOff x="990720" y="3276720"/>
            <a:chExt cx="7162560" cy="1143000"/>
          </a:xfrm>
        </p:grpSpPr>
        <p:sp>
          <p:nvSpPr>
            <p:cNvPr id="108" name=""/>
            <p:cNvSpPr/>
            <p:nvPr/>
          </p:nvSpPr>
          <p:spPr>
            <a:xfrm>
              <a:off x="990720" y="3276720"/>
              <a:ext cx="7162560" cy="11430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e integers and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a positive integer, the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ongruent to b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dulo 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divides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– 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This is denoted by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mod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e not congruent modulo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e write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mod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91320" y="41148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838080" y="4687920"/>
            <a:ext cx="7772400" cy="1031400"/>
            <a:chOff x="838080" y="4687920"/>
            <a:chExt cx="7772400" cy="1031400"/>
          </a:xfrm>
        </p:grpSpPr>
        <p:sp>
          <p:nvSpPr>
            <p:cNvPr id="111" name=""/>
            <p:cNvSpPr/>
            <p:nvPr/>
          </p:nvSpPr>
          <p:spPr>
            <a:xfrm>
              <a:off x="838080" y="4687920"/>
              <a:ext cx="7772400" cy="10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  <a:ea typeface="Tahoma"/>
                </a:rPr>
                <a:t>Exampl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nce 6 divides 17 – 5 = 12, we see that 17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5 (mod 6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nce 24 – 14 = 10 is not divisible by 6, we see that 24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4 (mod 6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32520" y="5460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0C5-58F4-43AB-B994-D511A972B6E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D7CDE-10D1-4236-B711-E70D5498796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2.3: Integers and Division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371600"/>
            <a:ext cx="7162560" cy="685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a positive integer. The integer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congruent modul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nd only if there is an integ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th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+ k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3429000"/>
            <a:ext cx="7162560" cy="685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a positive integer. 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+ 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+ 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and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2057400"/>
            <a:ext cx="77724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o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h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This means that there is an integ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b = k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o th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b + k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Conversely, if there is an integ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b + k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 = a – 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vide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o th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4114800"/>
            <a:ext cx="7772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o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here are integer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= a + s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= c + t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+ d 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+ s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+ t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+ 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+ s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+ t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+ 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+ cs +st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e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+ 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 + 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and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o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B0F4-071D-43F4-B764-7DB97B40ABC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372E3-6894-44CE-8C1A-1AA23F5BF3D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2.3: Integers and Division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1371600"/>
            <a:ext cx="77724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7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(mod 5) and 1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(mod 5), it follows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= 7 + 1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+ 1 = 3 (mod 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 = 7 * 1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* 1 = 2 (mod 5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E9F5-004F-4E50-BEDD-34F3B8C29FD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6FAB0-C4E7-445D-BC0D-C507645654F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2.3: Integers and Division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817640"/>
            <a:ext cx="77724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rt of discrete mathematics involving the integers and their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ongs to the branch of mathematics calle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theo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914400" y="4572000"/>
            <a:ext cx="7772400" cy="685800"/>
            <a:chOff x="914400" y="4572000"/>
            <a:chExt cx="7772400" cy="685800"/>
          </a:xfrm>
        </p:grpSpPr>
        <p:sp>
          <p:nvSpPr>
            <p:cNvPr id="47" name=""/>
            <p:cNvSpPr/>
            <p:nvPr/>
          </p:nvSpPr>
          <p:spPr>
            <a:xfrm>
              <a:off x="914400" y="4572000"/>
              <a:ext cx="77724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ahoma"/>
                </a:rPr>
                <a:t>Exampl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  7, since 7/3 is not an integer. However, 3 | 12 since 12/3 = 4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" name=""/>
            <p:cNvGraphicFramePr/>
            <p:nvPr/>
          </p:nvGraphicFramePr>
          <p:xfrm>
            <a:off x="1162080" y="4952880"/>
            <a:ext cx="76320" cy="304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62080" y="4952880"/>
                      <a:ext cx="7632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" name=""/>
          <p:cNvGrpSpPr/>
          <p:nvPr/>
        </p:nvGrpSpPr>
        <p:grpSpPr>
          <a:xfrm>
            <a:off x="990720" y="3048120"/>
            <a:ext cx="7162560" cy="1218960"/>
            <a:chOff x="990720" y="3048120"/>
            <a:chExt cx="7162560" cy="1218960"/>
          </a:xfrm>
        </p:grpSpPr>
        <p:sp>
          <p:nvSpPr>
            <p:cNvPr id="51" name=""/>
            <p:cNvSpPr/>
            <p:nvPr/>
          </p:nvSpPr>
          <p:spPr>
            <a:xfrm>
              <a:off x="990720" y="3048120"/>
              <a:ext cx="7162560" cy="121896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are integers with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0, we say tha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ivide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if there is a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g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such tha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 = a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 Whe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divides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we say tha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is a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facto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nd tha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is a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multiple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o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 The notatio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 | 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denotes tha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divides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 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rite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whe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does not divide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4514760" y="3321000"/>
                  <a:ext cx="11448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aphicFrame>
          <p:nvGraphicFramePr>
            <p:cNvPr id="53" name=""/>
            <p:cNvGraphicFramePr/>
            <p:nvPr/>
          </p:nvGraphicFramePr>
          <p:xfrm>
            <a:off x="1778040" y="3936960"/>
            <a:ext cx="76320" cy="304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78040" y="3936960"/>
                      <a:ext cx="7632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7B20-7D9C-4474-9F85-BA38600644F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7EDA9-3C35-4D8F-872D-614D773056B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2.3: Integers and Division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1447920"/>
            <a:ext cx="7162560" cy="12189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e integers.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 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 | 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 | 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|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 + 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 | 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 | b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r all integer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 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 | 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 | 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 | 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2743200"/>
            <a:ext cx="7772400" cy="29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o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Suppose th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| 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| 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n, from the definition of divisibility, it follow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there are integer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+ c = as + 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+ 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|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+ 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| b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= ak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c = ak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(kc) = b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| b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| 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= ak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|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= b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bl = 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k = 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| 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B975-E5D8-4DF1-9B68-DE0C43AEFC5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D5EAD-779F-42EA-9C6C-2FF1D351387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2.3: Integers and Division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1616040"/>
            <a:ext cx="7162560" cy="990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positive integ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reater than 1 is call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ri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f the only positive facto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 1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A positive integer that is greater than 1 and is not prime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l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ompos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0920" y="1219320"/>
            <a:ext cx="15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Tahoma"/>
              </a:rPr>
              <a:t>Pri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743200"/>
            <a:ext cx="77724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ger 7 is prime since its only positive factors are 1 and 7, wherea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9 is composite since it is divisible by 3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395136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es less that 100 are 2, 3, 5, 7, 11, 13, 17, 19, 23, 29, 31, 37, 41, 43, 47, 53,59, 61, 67, 71, 73, 79, 83, 89, and 9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48006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3,466,917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) is the largest known prime. It has 4,053,946 digits. It was discovered in Dec, 200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AA50-2482-434C-B0EA-ED06587A4AE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8D274-2BC8-4814-A48C-64AB8851B12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2.3: Integers and Division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1981080"/>
            <a:ext cx="7162560" cy="990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 positive integer can be written uniquely as the product of prim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re the prime factors are written in order of increasing size. (Here,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 can have zero, one or more than one prime factor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2520" y="1582560"/>
            <a:ext cx="51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Tahoma"/>
              </a:rPr>
              <a:t>The Fundamental Theorem of Arithmet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3392640"/>
            <a:ext cx="7772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me factorizations of 100, 641, 999, and 1024 are given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= 2*2*5*5 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1 = 64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9 = 3*3*3*37 =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3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24 = 2*2*2*2*2*2*2*2*2*2 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174B-08E5-449D-A57C-3715B5DE803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DEF95-D414-4133-BA97-D969B6B0D35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2.3: Integers and Division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1371600"/>
            <a:ext cx="7162560" cy="7621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composite integer, th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as a prime divisor less than or equal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380880" cy="36216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838080" y="2309760"/>
            <a:ext cx="7772400" cy="2041200"/>
            <a:chOff x="838080" y="2309760"/>
            <a:chExt cx="7772400" cy="2041200"/>
          </a:xfrm>
        </p:grpSpPr>
        <p:sp>
          <p:nvSpPr>
            <p:cNvPr id="72" name=""/>
            <p:cNvSpPr/>
            <p:nvPr/>
          </p:nvSpPr>
          <p:spPr>
            <a:xfrm>
              <a:off x="838080" y="2309760"/>
              <a:ext cx="7772400" cy="20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Proof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is composite, it has a facto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with 1 &lt;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&lt;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Hence,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 = a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where both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re positive integers greater than 1. We see tha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</a:t>
              </a: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o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, si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therwise                            . Hence,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as a positive divisor not exceeding     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divisor is either prime or has a prime divisor. In either case,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has a pr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visor less than or equal to      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5791320" y="2994120"/>
              <a:ext cx="38088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6730920" y="2994120"/>
              <a:ext cx="381240" cy="361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1828800" y="3333600"/>
                  <a:ext cx="1600200" cy="34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&gt;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=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76" name="" descr=""/>
            <p:cNvPicPr/>
            <p:nvPr/>
          </p:nvPicPr>
          <p:blipFill>
            <a:blip r:embed="rId4"/>
            <a:stretch/>
          </p:blipFill>
          <p:spPr>
            <a:xfrm>
              <a:off x="7645320" y="3311640"/>
              <a:ext cx="38124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5"/>
            <a:stretch/>
          </p:blipFill>
          <p:spPr>
            <a:xfrm>
              <a:off x="3467160" y="3971880"/>
              <a:ext cx="380880" cy="36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838080" y="4611600"/>
            <a:ext cx="79250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senne pri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prime of the form (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), wher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lso prim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= 3,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= 7, and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= 31 are Mersenne prim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= 2047 is not a Mersenne prime since 2047 = 23 * 89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4C70-0E5E-4807-9A10-783A7BB8FD5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925DE-E4E1-4BE4-B7E7-4F2E0D187D9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2.3: Integers and Division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1662120"/>
            <a:ext cx="7162560" cy="12333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e an integer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positive integer. Then there are unique inte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with 0 </a:t>
            </a:r>
            <a:r>
              <a:rPr b="0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such th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 = dq + 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equality given in the division algorithm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called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l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called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called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min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2720" y="1270080"/>
            <a:ext cx="296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Tahoma"/>
              </a:rPr>
              <a:t>The Division Algorith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2986200"/>
            <a:ext cx="77724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 = 11* 9 + 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e, the quotient when 101 is divided by 11 is 9, and the remainder is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4408560"/>
            <a:ext cx="77724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  = 3(– 4) + 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e, the quotient when – 11 is divided by 3 is – 4, and the remainder is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at the remainder cannot be negativ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3339-57F0-4C9E-8E33-95611AABA3C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F752A-80C7-496F-A296-5B2089D55DE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2.3: Integers and Division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1905120"/>
            <a:ext cx="7162560" cy="9903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e integers, not both zero. The largest integ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 | 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d | 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called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reatest common divis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The great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on divisor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denoted by gcd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1680" y="1498680"/>
            <a:ext cx="33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ahoma"/>
                <a:ea typeface="Tahoma"/>
              </a:rPr>
              <a:t>Greatest Common Divis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3240000"/>
            <a:ext cx="77724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sitive common divisors of 24 and 36 are 1, 2, 3, 4, 6, and 12. Hence,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cd(24, 36) = 1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4648320"/>
            <a:ext cx="77724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gers 17 and 22 have no positive common divisors other than 1, so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cd(17, 22) =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4B16-8A75-4D51-AA31-71373325D81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25080-B9CA-4DA0-8D4C-DC0DE98B0BA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2.3: Integers and Division</a:t>
            </a:r>
            <a:endParaRPr b="0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124080"/>
            <a:ext cx="7162560" cy="685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integer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airwise relatively pri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f gcd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ever 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 &lt; j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4191120"/>
            <a:ext cx="77724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gers 10, 17, and 21 are pairwise relatively prime si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cd(10, 17) = 1, gcd(10, 21) = 1, and gcd(17, 21) = 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gers 10, 19, 24 are not pairwise relatively prime since gcd(10, 24) = 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1828800"/>
            <a:ext cx="7162560" cy="685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integer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latively prim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ir greatest common divis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S-251 Slid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6DA9-FF59-4B39-A7EF-535D85564C1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B6466-D872-43E4-BE06-51B88F83C97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30T21:30:37Z</dcterms:created>
  <dc:creator>CCSE</dc:creator>
  <dc:description/>
  <dc:language>en-US</dc:language>
  <cp:lastModifiedBy> </cp:lastModifiedBy>
  <dcterms:modified xsi:type="dcterms:W3CDTF">2003-10-11T20:36:49Z</dcterms:modified>
  <cp:revision>167</cp:revision>
  <dc:subject/>
  <dc:title>PowerPoint Presentation</dc:title>
</cp:coreProperties>
</file>