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990612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-360" y="3768480"/>
            <a:ext cx="990612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483408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640" y="791640"/>
            <a:ext cx="483408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-360" y="3768480"/>
            <a:ext cx="483408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640" y="3768480"/>
            <a:ext cx="483408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318960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9080" y="791640"/>
            <a:ext cx="318960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98520" y="791640"/>
            <a:ext cx="318960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-360" y="3768480"/>
            <a:ext cx="318960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9080" y="3768480"/>
            <a:ext cx="318960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98520" y="3768480"/>
            <a:ext cx="318960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-360" y="791640"/>
            <a:ext cx="9906120" cy="56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990612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483408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640" y="791640"/>
            <a:ext cx="483408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90612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483408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640" y="791640"/>
            <a:ext cx="483408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60" y="3768480"/>
            <a:ext cx="483408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483408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640" y="791640"/>
            <a:ext cx="483408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640" y="3768480"/>
            <a:ext cx="483408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483408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640" y="791640"/>
            <a:ext cx="483408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-360" y="3768480"/>
            <a:ext cx="9906120" cy="27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967"/>
            </a:gs>
            <a:gs pos="100000">
              <a:srgbClr val="2013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160" y="685800"/>
            <a:ext cx="9894600" cy="152280"/>
            <a:chOff x="11160" y="685800"/>
            <a:chExt cx="9894600" cy="152280"/>
          </a:xfrm>
        </p:grpSpPr>
        <p:sp>
          <p:nvSpPr>
            <p:cNvPr id="1" name=""/>
            <p:cNvSpPr/>
            <p:nvPr/>
          </p:nvSpPr>
          <p:spPr>
            <a:xfrm>
              <a:off x="11160" y="685800"/>
              <a:ext cx="9894600" cy="74520"/>
            </a:xfrm>
            <a:prstGeom prst="rect">
              <a:avLst/>
            </a:prstGeom>
            <a:gradFill rotWithShape="0">
              <a:gsLst>
                <a:gs pos="0">
                  <a:srgbClr val="7d0013"/>
                </a:gs>
                <a:gs pos="50000">
                  <a:srgbClr val="fc0128"/>
                </a:gs>
                <a:gs pos="100000">
                  <a:srgbClr val="7d001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1160" y="799920"/>
              <a:ext cx="989460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Click to edit the title text format</a:t>
            </a:r>
            <a:endParaRPr b="0" lang="en-US" sz="28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-360" y="791640"/>
            <a:ext cx="990612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d989b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43720"/>
            <a:ext cx="9904320" cy="0"/>
          </a:xfrm>
          <a:prstGeom prst="line">
            <a:avLst/>
          </a:prstGeom>
          <a:ln w="50760">
            <a:solidFill>
              <a:srgbClr val="e18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29760" y="6648480"/>
            <a:ext cx="2063880" cy="20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182840" y="6552720"/>
            <a:ext cx="3136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560" y="6543720"/>
            <a:ext cx="7412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24A1-1760-4B0D-9BC6-DA33C8164825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967"/>
            </a:gs>
            <a:gs pos="100000">
              <a:srgbClr val="2013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  <a:ea typeface="Times New Roman"/>
              </a:rPr>
              <a:t>Overview of Programming Paradigms</a:t>
            </a:r>
            <a:endParaRPr b="0" lang="en-US" sz="32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990612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Objectiv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able to explain the differences between programming languages and programming paradig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able to differentiate between low-level and high-level programming languages and their associated advantages and disadvant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able to list four programming paradigms and describe their strengths and weakn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to Compute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Langu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Paradig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967"/>
            </a:gs>
            <a:gs pos="100000">
              <a:srgbClr val="2013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Book Antiqua"/>
                <a:ea typeface="Times New Roman"/>
              </a:rPr>
              <a:t>Programming Paradigms: Functional</a:t>
            </a:r>
            <a:endParaRPr b="0" lang="en-US" sz="27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990612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ogram in this paradigm consists of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uses functions in a similar way as used in mathema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execution involves functions calling each other and returning results.  There are no variables in functional langu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functional languages include:  ML, Mirand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Hask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 and clean synta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upport for reasoning about progr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allow functions to be treated as any other data valu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support programming at a relatively higher level than the  imperative langu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4648320"/>
            <a:ext cx="94485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iculty of doing input-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languages use more storage space than their imperative cousi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967"/>
            </a:gs>
            <a:gs pos="100000">
              <a:srgbClr val="2013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Book Antiqua"/>
                <a:ea typeface="Times New Roman"/>
              </a:rPr>
              <a:t>Programming Paradigms: Logic</a:t>
            </a:r>
            <a:endParaRPr b="0" lang="en-US" sz="27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990612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ogram in the logic paradigm consists of a set of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icat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les of inferenc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icates are statements of fact like the statement that says: water is w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les of inference are statements lik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X is human then X is mort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edicates and the rules of inference are used to prove statements that the programmer suppli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Prolo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support for reasoning about progr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lead to concise solutions to probl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w exec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view of the wor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means the system does not know about facts that are not its predicates and rules of inferen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iculties in understanding and debugging large progr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967"/>
            </a:gs>
            <a:gs pos="100000">
              <a:srgbClr val="2013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Book Antiqua"/>
                <a:ea typeface="Times New Roman"/>
              </a:rPr>
              <a:t>Which Programming Paradigm is  Best?</a:t>
            </a:r>
            <a:endParaRPr b="0" lang="en-US" sz="27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9160" y="914040"/>
            <a:ext cx="94870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f these paradigms is the bes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accurate answer is that there is no best paradig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ingle paradigm will fit all problems wel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beings use a combination of the models represented by these paradig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s with features from different paradigms are often too comple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, the search of the ultimate programming language continues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967"/>
            </a:gs>
            <a:gs pos="100000">
              <a:srgbClr val="2013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Book Antiqua"/>
                <a:ea typeface="Times New Roman"/>
              </a:rPr>
              <a:t>Review Questions</a:t>
            </a:r>
            <a:endParaRPr b="0" lang="en-US" sz="27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9160" y="914040"/>
            <a:ext cx="94870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ist two advantages and two disadvantages of low-level langu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. Explain the similarities and differences between an assembly language and a machine langu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. Mention the programming paradigm to which each of the following languages belongs: Visual Basic, Java, C#, Haskell, Lisp, Prolog, Pasc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. Which programming paradigms give better support for reasoning about program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. Which programming paradigms give better support for doing I/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967"/>
            </a:gs>
            <a:gs pos="100000">
              <a:srgbClr val="2013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Book Antiqua"/>
                <a:ea typeface="Times New Roman"/>
              </a:rPr>
              <a:t>Computer Programming</a:t>
            </a:r>
            <a:endParaRPr b="0" lang="en-US" sz="27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990612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unctions of a computer system are controlled by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er progr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puter program is a clear, step-by-step, finite set of instruc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puter program must be clear so that only one meaning can be derived from i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puter program is written in a computer language called a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langu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967"/>
            </a:gs>
            <a:gs pos="100000">
              <a:srgbClr val="2013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Book Antiqua"/>
                <a:ea typeface="Times New Roman"/>
              </a:rPr>
              <a:t>Programming Languages</a:t>
            </a:r>
            <a:endParaRPr b="0" lang="en-US" sz="27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990612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three categories of programming languag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     Machine langu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     Assembly langu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     High-level langu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hine languages and assembly languages are also called low-level langu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967"/>
            </a:gs>
            <a:gs pos="100000">
              <a:srgbClr val="2013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Book Antiqua"/>
                <a:ea typeface="Times New Roman"/>
              </a:rPr>
              <a:t>Programming Languages (cont’d)</a:t>
            </a:r>
            <a:endParaRPr b="0" lang="en-US" sz="27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990612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Machine language progra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 a sequence of zeros and 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ind of CPU has its own machine languag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and effic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hine orien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ranslation requi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or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rogrammer friend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967"/>
            </a:gs>
            <a:gs pos="100000">
              <a:srgbClr val="2013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Book Antiqua"/>
                <a:ea typeface="Times New Roman"/>
              </a:rPr>
              <a:t>Assembly Language</a:t>
            </a:r>
            <a:endParaRPr b="0" lang="en-US" sz="27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990612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ssembly language program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e mnemonics to represent machine instruc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statement in assembly language corresponds to one statement in machine languag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mbly language programs have the same advantages and disadvantages as machine language progra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e the following machine language and assembly language program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4284720"/>
          <a:ext cx="7994520" cy="1963800"/>
        </p:xfrm>
        <a:graphic>
          <a:graphicData uri="http://schemas.openxmlformats.org/drawingml/2006/table">
            <a:tbl>
              <a:tblPr/>
              <a:tblGrid>
                <a:gridCol w="4692600"/>
                <a:gridCol w="3301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86 Machine language program f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r1  =  var1  +  var2 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86 Assembly program f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r1  =  var1  +  var2 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 0001 0000 0000 0000 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0 0011 0000 0110 0000 0000 0000 0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 0011 0000 0000 0000 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V  AX ,  var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D  AX ,  var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V  var1  ,  A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967"/>
            </a:gs>
            <a:gs pos="100000">
              <a:srgbClr val="2013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Book Antiqua"/>
                <a:ea typeface="Times New Roman"/>
              </a:rPr>
              <a:t>High-Level Programming Languages</a:t>
            </a:r>
            <a:endParaRPr b="0" lang="en-US" sz="27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990612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 algn="just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high-level language (HLL) has two primary compon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a set of built-i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primitive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ammatical r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lat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HLL language progra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ists of English-like statements that are governed by a stri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ta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or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chine independ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er-friend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s efficient as low-level langu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be transl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: C, C++, Java, FORTRAN, Visual Basic, and Delph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967"/>
            </a:gs>
            <a:gs pos="100000">
              <a:srgbClr val="2013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Book Antiqua"/>
                <a:ea typeface="Times New Roman"/>
              </a:rPr>
              <a:t>Programming Paradigms</a:t>
            </a:r>
            <a:endParaRPr b="0" lang="en-US" sz="27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990612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are there hundreds of programming languages in use toda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programming languages are specifically designed for use in certain applica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programming languages follow different approaches to solving programming probl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paradig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n approach to solving programming problem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ogramming paradigm may consist of many programming langu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programming paradig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ative or Procedural Programm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 Programm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Programm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c Programm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967"/>
            </a:gs>
            <a:gs pos="100000">
              <a:srgbClr val="2013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Book Antiqua"/>
                <a:ea typeface="Times New Roman"/>
              </a:rPr>
              <a:t>Programming Paradigms: Imperative</a:t>
            </a:r>
            <a:endParaRPr b="0" lang="en-US" sz="27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990612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is paradigm, a program is a series of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em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aining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ab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execution involves changing the memory contents of the computer continuous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of imperative languages are: C, FORTRAN, Pascal, COBOL et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ang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angal"/>
              </a:rPr>
              <a:t>low memory util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angal"/>
              </a:rPr>
              <a:t>relatively effic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common form of programming in use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886200"/>
            <a:ext cx="922032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ang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angal"/>
              </a:rPr>
              <a:t>difficulty of reasoning about progr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angal"/>
              </a:rPr>
              <a:t>difficulty of paralleliz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angal"/>
              </a:rPr>
              <a:t>Tend to be relatively low lev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967"/>
            </a:gs>
            <a:gs pos="100000">
              <a:srgbClr val="2013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Book Antiqua"/>
                <a:ea typeface="Times New Roman"/>
              </a:rPr>
              <a:t>Programming Paradigms: Object-Oriented</a:t>
            </a:r>
            <a:endParaRPr b="0" lang="en-US" sz="2700" spc="-1" strike="noStrike">
              <a:solidFill>
                <a:srgbClr val="fc0128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791640"/>
            <a:ext cx="990612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ogram in this paradigm consists of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ich communicate with each other by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ing mess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object oriented languages include: Java, C#, Smalltalk, et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ual simpl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s computation be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productivi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733920"/>
            <a:ext cx="70106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have a steep learning curve, initi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ing I/O can be cumbers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4T15:53:46Z</dcterms:created>
  <dc:creator>ICS102 Fall 2001</dc:creator>
  <dc:description/>
  <dc:language>en-US</dc:language>
  <cp:lastModifiedBy>Said Abdallah Muhammad</cp:lastModifiedBy>
  <cp:lastPrinted>1997-10-14T11:04:46Z</cp:lastPrinted>
  <dcterms:modified xsi:type="dcterms:W3CDTF">2002-09-14T03:20:36Z</dcterms:modified>
  <cp:revision>567</cp:revision>
  <dc:subject/>
  <dc:title>Introduction to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pc-ghanta.ccse.kfupm.edu.sa</vt:lpwstr>
  </property>
  <property fmtid="{D5CDD505-2E9C-101B-9397-08002B2CF9AE}" pid="9" name="LinkColor">
    <vt:r8>16711782</vt:r8>
  </property>
  <property fmtid="{D5CDD505-2E9C-101B-9397-08002B2CF9AE}" pid="10" name="MailAddress">
    <vt:lpwstr>ghanta@ccse.kfupm.edu.sa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