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950-AB6C-4B30-BE33-3A833457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417-D459-418E-9D37-06799BA0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E80-8BCA-47F6-8F77-D8C8A54C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81AE-14F9-4E44-8EAE-29978403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E544-0A78-42E1-BD18-832F99F9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E8E4-4659-406B-83E2-531A954E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835-532B-45D7-84D9-EDD1DB76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6F0-1239-4187-B492-6B442B1D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62E-4065-4EF0-95B7-51ABAF5F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7D4-5259-4F29-A54D-4E1FA9B5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5D1-A3C1-4557-9184-6DD9F8AA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02F-F1D8-4953-B534-BCC087F3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BE06-9752-4EC9-9059-4C381EC64265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7FBF-130A-44AE-B440-3556B7829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Chapter 2: The Fundamentals: Algorithms, The Integers and Matrices 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3: Integers and Divis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4: Integers and Algorithm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2.5: Applications of Number Theor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1BE-000D-4B49-8A47-1608615EB6C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20608-2FF4-4752-AADF-A39664301C3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5: Applications of Number Theory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534240" y="1279440"/>
            <a:ext cx="51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Tahoma"/>
              </a:rPr>
              <a:t>Computer Arithmetic with Large Integ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90560"/>
            <a:ext cx="77724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pairwise relatively prime integers greater than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 to 2 and l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their product. By the Chinese Remainder Theorem, 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show that an integ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0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uniquely represented b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3112920"/>
            <a:ext cx="77724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pairs used to represent the nonnegative integers less than 12 w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represented by the ordered pair where the first component i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ainder of the integer upon division by 3 and the second component i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ainder of the integer upon division by 4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4815000"/>
            <a:ext cx="792504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0 = (0, 0)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4 = (1, 0)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8 = (2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 = (1, 1)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5 = (2, 1)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9 = (0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2 = (2, 2)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6 = (0, 2)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10 = (1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3 = (0, 3)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7 = (1, 3)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11 = (2,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2C9-8C02-439D-8DBF-44468EA0128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EDC42-0D93-4660-877C-DA58F4B9009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5: Applications of Number Theory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219320"/>
            <a:ext cx="7772400" cy="50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mbers 99, 98, 97 and 95 are relatively prime pairwise. By the Chinese Remain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, every nonnegative integer less than 99*98*97*95 = 89,403,930 can be represen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ly by its remainders when divided by these four moduli. For example, we c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123,684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3,684 = (123684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9, 123684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8, 123684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7, 123684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33, 8, 9, 8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ly, we can represent 413,456 as (32, 92, 42, 16) Therefore, the sum of 123,684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3,456 can be represented as  123,684 + 413,456 = (33, 8, 9, 89) + (32, 92, 42, 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65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9, 10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8, 51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7, 105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5) = (65, 2, 51, 1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nd the sum we need to solve th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5 (mod 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2 (mod 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1 (mod 9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(mod 9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ger 537,140 is the unique nonnegative solution of this system less than 98,403,93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e Exercise 2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882-6A43-44F4-A148-52805D06DEC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1617D-EA82-4CAA-BA69-BCD8BCC28B0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5: Applications of Number Theory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097000"/>
            <a:ext cx="7162560" cy="14479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prime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integer not divisible b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p–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more, for every integ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9000" y="1660680"/>
            <a:ext cx="30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Tahoma"/>
              </a:rPr>
              <a:t>Fermat’s Little Theor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4078440"/>
            <a:ext cx="777240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ger 341 is a pseudoprime since it is composite (341 = 11*3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(mod 341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e Exercise 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335D-5589-4D2E-90C9-4DB986E8AC3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D0F7C-85E5-4413-A21B-045AA2FD8B1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5: Applications of Number Theory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1817640"/>
            <a:ext cx="777240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key cryptosyste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ne can quickly find the decryption key if know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cryption key (e.g. encryption based on congruence introduced in 2.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key cryptograph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veryone can have the publicity to know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ion key. Only the decryption keys are kept secret, and only the intend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pient of a message can decrypt it. (e.g. RSA encry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6440" y="1436760"/>
            <a:ext cx="31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Tahoma"/>
              </a:rPr>
              <a:t>Public Key Cryptograph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8280" y="3722760"/>
            <a:ext cx="20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Tahoma"/>
              </a:rPr>
              <a:t>RSA Encryp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4103640"/>
            <a:ext cx="77724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ach letter in the message is translated into an integer. Those integers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ed together to form larger integers, each representing a block of lett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e encrypt by transforming the integ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resenting the original message,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teg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resenting the encrypted message using th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92E9-478E-4846-A6C3-298FB6BF837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51ACE-D198-44C0-A572-C430C81303E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5: Applications of Number Theory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523880"/>
            <a:ext cx="77724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 the message ‘STOP’ using the RSA cryptosystem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3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9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th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3*59 = 2537, and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3. Note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cd(e,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) = gcd(13, 42*58) =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276720"/>
            <a:ext cx="792468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e translate the letters into their numerical equivalents and then group the numb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to blocks of four. We obtain   1819  141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e encrypt each block using the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13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od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2537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mputations using fast modular multiplication show that 1819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13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od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2537 = 20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nd 1415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13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od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2537 = 2182. The encrypted message is 2081 218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FE3-8D31-4CF2-AF71-1FAA19ADB27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08896-3017-4F19-A10A-E38A34EE474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5: Applications of Number Theory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724320" y="160020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Tahoma"/>
              </a:rPr>
              <a:t>RSA Decryp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981080"/>
            <a:ext cx="7772400" cy="36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riginal message can be easily recovered when the decryption ke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rse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o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, is known. To see this, note that i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(mod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n integ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follows that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 +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– 1)(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– 1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ermat’s Little Theorem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quentl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(q–1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(p–1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gcd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, if follows by the Chinese Remainder Theorem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AED-EA01-4E70-BE44-580B9C79FA2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25951-C6C7-4F59-94C7-403EDFF58BB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5: Applications of Number Theory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676520"/>
            <a:ext cx="79246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ypt the message 0981 0461 using the RSA cipher used in the previous examp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2655720"/>
            <a:ext cx="79246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43*59,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1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937(see Exercise 10) is an inverse of 13 modulo 42*58 = 243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e use 937 as our decryption exponent. Consequently, to decrypt a block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, 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mpute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937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od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253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o decrypt the message, we use the fast modular exponentiation algorithm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mpute 0981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937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od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2537 = 0704 and 0461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937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od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2537 = 1115. Consequentl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e numerical version of the original message is 0704 1115. Translating this back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English letters, we see that the message is HELP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E76-3AB6-4473-AB5C-479DF95933C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724DE-A959-46F9-9EC4-96EA4A0E7D3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5: Applications of Number Theory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133720"/>
            <a:ext cx="7162560" cy="7617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positive integers, then there exists integer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cd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 +  t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722760"/>
            <a:ext cx="7162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 gcd(252, 198) = 18 as a linear combination of 252 and 198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5562720"/>
            <a:ext cx="1523880" cy="30456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se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F4F-F9F3-4CE1-BE03-F5E82A022F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60CB5-B1B8-4271-90F1-D0A40920F0D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5: Applications of Number Theory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353960"/>
            <a:ext cx="792468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e use the Euclidean algorith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252 = 1*198 + 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98 = 3*54 + 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54 = 1*36 + 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36 = 2*18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Using the 3</a:t>
            </a:r>
            <a:r>
              <a:rPr b="0" lang="en-US" sz="16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rd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division, we express gcd(252, 198) = 18 as a linear combination of 54 and 3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e 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8 = 54 – 1*3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e second division tells us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36 = 198 – 3*5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ubstituting for 36 into the previous equation, we 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8 = 54 – 1*36 = 54 – 1*(198 – 3*54) = 4*54 – 1*1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e first division tells us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54 = 252 – 1*1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ubstituting for 54 into the previous equation, we 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8 = 4*(252 – 1*198) – 1*198 =  4*252 – 5*1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9058-0B8B-4225-BED2-6D1496D157E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D4154-2CCA-4F14-AA3B-842321D5A17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5: Applications of Number Theory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371600"/>
            <a:ext cx="7238880" cy="4572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positive integers such that gcd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828800"/>
            <a:ext cx="77724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o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gcd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, by Theorem 1 there are integer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+ t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ying both slides of this equation b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obta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 + tbc = 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Theorem 1 of Section 2.3, we can use this last equation to show th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part 2 of that theorem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| tb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inc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| sa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| tb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y part 1 of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, we conclude that a divid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 + tb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henc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|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572000"/>
            <a:ext cx="7162560" cy="685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a positive integer, and l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integers. 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gcd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1, t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5257800"/>
            <a:ext cx="77724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o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| a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bc =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By the previous lemma, si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cd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, it follows th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| a – 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We conclude th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6D3-42F2-4120-A9BD-CE0703D31F6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31220-2F8F-4D86-A198-F73F13885CB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5: Applications of Number Theory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3124080"/>
            <a:ext cx="7162560" cy="685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relatively prime integers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, then an invers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ists. Furthermore, this inverse is unique modul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8520" y="121932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Tahoma"/>
              </a:rPr>
              <a:t>Linear Congrue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614600"/>
            <a:ext cx="77724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gruence of the form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positive integer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integers,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variable, is called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 congrue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uch congruences arise throughout number theory and 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962520"/>
            <a:ext cx="777240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o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orem 1, since gcd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, there are integer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+ t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mplies that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+ t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t follows that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quently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inverse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89880" y="5791320"/>
            <a:ext cx="66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n you prove that this inverse is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iqu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ulo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9B5-E818-4E68-819E-5A6EFC92805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B2232-3B9F-497D-AC13-0E9E00B1CB4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5: Applications of Number Theory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219320"/>
            <a:ext cx="7772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inverse of 3 modulo 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905120"/>
            <a:ext cx="79246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gcd(3, 7) = 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Using Euclidean algorithm: 7 = 2*3 + 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rom this equation we see that  –2*3 + 1*7 =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is shows that –2 is an inverse of 3 modulo 7. (Note that every integer congru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o –2 modulo 7 is also an inverse of 3, such as 5, –9, 12, and so on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3494160"/>
            <a:ext cx="7772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solutions of the linear congruence 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(mod 7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4149720"/>
            <a:ext cx="815328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y the previous example, –2 is an inverse of 3 modulo 7. Therefore, –2*3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2*4 (mod 7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ince –6 </a:t>
            </a:r>
            <a:r>
              <a:rPr b="0" lang="en-US" sz="1600" spc="-1" strike="noStrike">
                <a:solidFill>
                  <a:srgbClr val="cc33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1 (mod 7) and –8 </a:t>
            </a:r>
            <a:r>
              <a:rPr b="0" lang="en-US" sz="1600" spc="-1" strike="noStrike">
                <a:solidFill>
                  <a:srgbClr val="cc33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6 (mod 7), it follows that if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is a solution, t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8 </a:t>
            </a:r>
            <a:r>
              <a:rPr b="0" lang="en-US" sz="1600" spc="-1" strike="noStrike">
                <a:solidFill>
                  <a:srgbClr val="cc33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6 (mod 7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e need to determine whether every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with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6 (mod 7) is a solution. Assume th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6 (mod 7). Then, 3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3*6 = 18 </a:t>
            </a:r>
            <a:r>
              <a:rPr b="0" lang="en-US" sz="1600" spc="-1" strike="noStrike">
                <a:solidFill>
                  <a:srgbClr val="cc33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4 (mod 7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hich shows that all such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satisfy the congruence. We conclude that the solutions to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ngruence are the integers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such that </a:t>
            </a:r>
            <a:r>
              <a:rPr b="0" i="1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6 (mod 7), namely, 6, 13, 20, … and –1, –8, –15, …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6DDC-F92C-4300-8163-7E50805EF98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E98DD-D43E-4B64-BF4F-D0BE19394A2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5: Applications of Number Theory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2209680"/>
            <a:ext cx="7162560" cy="2971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pairwise relatively prime positive integers.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 unique solution modul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= 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.e. there is a solu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all other solutions are congruent modul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is solu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5280" y="1508040"/>
            <a:ext cx="42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Tahoma"/>
              </a:rPr>
              <a:t>The Chinese Remainder Theor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5562720"/>
            <a:ext cx="1523880" cy="30456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see pro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C667-03CD-436F-B3FB-2E146EF1695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99EF4-9840-4639-9110-2FD4BA24E06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5: Applications of Number Theory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1258920"/>
            <a:ext cx="79250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o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to show that a solution exists and that it is unique modul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re, 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only show that a solution exists. We do this by describing a way to construct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. To do that, first let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/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2, … 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product of the moduli except f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inc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e 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factors greater than 1 w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f follows that gcd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quently, by Theorem 3, we know that there is an integ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 inverse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nstruct a simultaneous solution, form the 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…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we show th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imultaneous solution. First, note that si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whenev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ll terms except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 term in this sum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ruent to 0 modul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inc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we see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  f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2, … 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 shown th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imultaneous solution to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gruen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63BA-2308-4A58-80C7-524F3D90B1B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F4125-18A7-4A37-97F5-8F43DC1513D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5: Applications of Number Theory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538280"/>
            <a:ext cx="777240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olve the system of congruences in Example 5, first l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*5*7 = 105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= 35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= 21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7 = 1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(mod 3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is an inverse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5 modulo 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(mod 5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is an inverse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1 modulo 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(mod 7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is an inverse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5 modulo 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lutions to this system are thos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*35*2 + 3*21*1 + 2*15*1 (mod 1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33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3 (mod 105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follows that 23 is the smallest positive integer that is a simultaneous solutio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onclude that 23 is the smallest positive integer that leaves a remainder of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ivided by 3, a remainder of 3 when divided by 5 and a remainder of 2 w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d by 7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586B-FED9-4D97-975E-E3BF4F51652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C02ED-F3F7-4E71-ADA5-6397F2FDEE7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21:30:37Z</dcterms:created>
  <dc:creator>CCSE</dc:creator>
  <dc:description/>
  <dc:language>en-US</dc:language>
  <cp:lastModifiedBy> </cp:lastModifiedBy>
  <dcterms:modified xsi:type="dcterms:W3CDTF">2003-11-01T02:37:32Z</dcterms:modified>
  <cp:revision>175</cp:revision>
  <dc:subject/>
  <dc:title>PowerPoint Presentation</dc:title>
</cp:coreProperties>
</file>