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FABB-52B4-4129-A6C4-44594D270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9857-13F3-4550-958F-446295194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C3F4-1DE0-4CC5-9EE2-D868B6809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6956-953E-48DE-8A84-FF8B724EE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D0B8-AFC7-4C76-8A30-EA0E80E9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57F1-5FD7-4B68-B8AF-CDCDC86D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CA85-855C-4E20-BD45-E23F65299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1DB1-5B89-4B3E-A768-F2D39AA4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DC1E-66AF-494E-93E9-281FEA89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7175-9E14-4313-8765-27582828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2BF9-74DD-4625-9147-C782194A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8BCE-BB53-488C-87DC-FE8774C6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60D43-D61A-467D-ACD8-F0E672B24796}" type="datetime3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0ECC-5089-46FF-9842-BC2C4DC371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Chapter 3: Mathematical Reasoning </a:t>
            </a: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3.1: Methods of Proof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.2: Mathematical Induction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S-251 Slid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10E3-1B11-4BAC-989A-5B5E796D4ED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DBA480-B777-424C-B02D-72E316B1C4D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580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3.1: Methods of Pro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2120" y="129528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  <a:ea typeface="Tahoma"/>
              </a:rPr>
              <a:t>Methods of Proving Theorems:</a:t>
            </a:r>
            <a:r>
              <a:rPr b="0" lang="en-US" sz="3200" spc="-1" strike="noStrike">
                <a:solidFill>
                  <a:srgbClr val="800000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2120" y="1965240"/>
            <a:ext cx="7772400" cy="14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1. Direct Pro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mplica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→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rue unles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rue bu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false. When the stat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→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proved, it need only be shown tha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rue i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rue. A proof of thi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nd is called a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proo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3616200"/>
            <a:ext cx="77724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  <a:ea typeface="Tahom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 a direct proof of the theorem “I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odd, the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odd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4510080"/>
            <a:ext cx="777240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Assume that the hypothesis of this implication is true, namely, suppose that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n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odd. Then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n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= 2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+ 1, where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is an integer. It follows th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n</a:t>
            </a:r>
            <a:r>
              <a:rPr b="0" lang="en-US" sz="1800" spc="-1" strike="noStrike" baseline="30000">
                <a:solidFill>
                  <a:srgbClr val="cc33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= (2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+ 1)</a:t>
            </a:r>
            <a:r>
              <a:rPr b="0" lang="en-US" sz="1800" spc="-1" strike="noStrike" baseline="30000">
                <a:solidFill>
                  <a:srgbClr val="cc33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= 4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k</a:t>
            </a:r>
            <a:r>
              <a:rPr b="0" lang="en-US" sz="1800" spc="-1" strike="noStrike" baseline="30000">
                <a:solidFill>
                  <a:srgbClr val="cc33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+ 4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+ 1 = 2(2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k</a:t>
            </a:r>
            <a:r>
              <a:rPr b="0" lang="en-US" sz="1800" spc="-1" strike="noStrike" baseline="30000">
                <a:solidFill>
                  <a:srgbClr val="cc33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+ 2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) + 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Therefore,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n</a:t>
            </a:r>
            <a:r>
              <a:rPr b="0" lang="en-US" sz="1800" spc="-1" strike="noStrike" baseline="30000">
                <a:solidFill>
                  <a:srgbClr val="cc33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is odd (it is 1 more than twice an integer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S-251 Slide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86C6-9569-46D0-A4C8-11B63EFB35A1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5D73BF-7DEF-457D-8C33-59A2537D2D9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62120" y="3083040"/>
            <a:ext cx="77724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  <a:ea typeface="Tahom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 an indirect proof of the theorem “If 3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 is odd, the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odd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3951360"/>
            <a:ext cx="815328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Assume that the conclusion of this implication is false; namely, assume that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n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is ev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Then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n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= 2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for some integer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It follows that 3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n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+ 2 = 3(2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) + 2 = 6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+ 2 = 2(3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+ 1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so 3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n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+ 2 is even (since it is a multiple of 2). Since the negation of the conclusion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the implication implies that the hypothesis is false, the original implications is tru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1447920"/>
            <a:ext cx="7772400" cy="14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2. Indirect Pro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e the implica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→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equivalent to its contrapositive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¬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→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¬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ica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→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be proved by showing that its contrapositive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¬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→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¬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ue. An argument of this type is called an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rect proo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3.1: Methods of Pro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S-251 Slide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CC98-DBBF-432E-A3BF-0FF8C8B231E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672A06-B005-4322-B071-4C6240E388E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8580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3.1: Methods of Pro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2120" y="2579760"/>
            <a:ext cx="77724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  <a:ea typeface="Tahoma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e that (2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/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irrational by giving a proof by contradic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3268800"/>
            <a:ext cx="8076960" cy="29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Let </a:t>
            </a:r>
            <a:r>
              <a:rPr b="0" i="1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p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by the proposition “(2)</a:t>
            </a:r>
            <a:r>
              <a:rPr b="0" lang="en-US" sz="1600" spc="-1" strike="noStrike" baseline="30000">
                <a:solidFill>
                  <a:srgbClr val="cc3300"/>
                </a:solidFill>
                <a:latin typeface="Times New Roman"/>
                <a:ea typeface="Times New Roman"/>
              </a:rPr>
              <a:t>1/2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is irrational” Suppose that 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Arial"/>
              </a:rPr>
              <a:t>¬</a:t>
            </a:r>
            <a:r>
              <a:rPr b="0" i="1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p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is true. Then (2)</a:t>
            </a:r>
            <a:r>
              <a:rPr b="0" lang="en-US" sz="1600" spc="-1" strike="noStrike" baseline="30000">
                <a:solidFill>
                  <a:srgbClr val="cc3300"/>
                </a:solidFill>
                <a:latin typeface="Times New Roman"/>
                <a:ea typeface="Times New Roman"/>
              </a:rPr>
              <a:t>1/2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is rational. W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will show that this leads to a contradiction. Under the assumption that (2)</a:t>
            </a:r>
            <a:r>
              <a:rPr b="0" lang="en-US" sz="1600" spc="-1" strike="noStrike" baseline="30000">
                <a:solidFill>
                  <a:srgbClr val="cc3300"/>
                </a:solidFill>
                <a:latin typeface="Times New Roman"/>
                <a:ea typeface="Times New Roman"/>
              </a:rPr>
              <a:t>1/2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is rational, t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exist integers </a:t>
            </a:r>
            <a:r>
              <a:rPr b="0" i="1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a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b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with (2)</a:t>
            </a:r>
            <a:r>
              <a:rPr b="0" lang="en-US" sz="1600" spc="-1" strike="noStrike" baseline="30000">
                <a:solidFill>
                  <a:srgbClr val="cc3300"/>
                </a:solidFill>
                <a:latin typeface="Times New Roman"/>
                <a:ea typeface="Times New Roman"/>
              </a:rPr>
              <a:t>1/2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a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/</a:t>
            </a:r>
            <a:r>
              <a:rPr b="0" i="1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b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, where a and b have no common factors. Sin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(2)</a:t>
            </a:r>
            <a:r>
              <a:rPr b="0" lang="en-US" sz="1600" spc="-1" strike="noStrike" baseline="30000">
                <a:solidFill>
                  <a:srgbClr val="cc3300"/>
                </a:solidFill>
                <a:latin typeface="Times New Roman"/>
                <a:ea typeface="Times New Roman"/>
              </a:rPr>
              <a:t>1/2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a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/</a:t>
            </a:r>
            <a:r>
              <a:rPr b="0" i="1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b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, when both sides of this equation are squared, it follows that 2 = </a:t>
            </a:r>
            <a:r>
              <a:rPr b="0" i="1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a</a:t>
            </a:r>
            <a:r>
              <a:rPr b="0" lang="en-US" sz="1600" spc="-1" strike="noStrike" baseline="30000">
                <a:solidFill>
                  <a:srgbClr val="cc3300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/</a:t>
            </a:r>
            <a:r>
              <a:rPr b="0" i="1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b</a:t>
            </a:r>
            <a:r>
              <a:rPr b="0" lang="en-US" sz="1600" spc="-1" strike="noStrike" baseline="30000">
                <a:solidFill>
                  <a:srgbClr val="cc3300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. Henc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b</a:t>
            </a:r>
            <a:r>
              <a:rPr b="0" lang="en-US" sz="1600" spc="-1" strike="noStrike" baseline="30000">
                <a:solidFill>
                  <a:srgbClr val="cc3300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a</a:t>
            </a:r>
            <a:r>
              <a:rPr b="0" lang="en-US" sz="1600" spc="-1" strike="noStrike" baseline="30000">
                <a:solidFill>
                  <a:srgbClr val="cc3300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. This means that </a:t>
            </a:r>
            <a:r>
              <a:rPr b="0" i="1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a</a:t>
            </a:r>
            <a:r>
              <a:rPr b="0" lang="en-US" sz="1600" spc="-1" strike="noStrike" baseline="30000">
                <a:solidFill>
                  <a:srgbClr val="cc3300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is even, implying that </a:t>
            </a:r>
            <a:r>
              <a:rPr b="0" i="1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a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is even. Furthermore, since </a:t>
            </a:r>
            <a:r>
              <a:rPr b="0" i="1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a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is even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a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= 2</a:t>
            </a:r>
            <a:r>
              <a:rPr b="0" i="1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c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for some integer </a:t>
            </a:r>
            <a:r>
              <a:rPr b="0" i="1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c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. Thus 2</a:t>
            </a:r>
            <a:r>
              <a:rPr b="0" i="1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b</a:t>
            </a:r>
            <a:r>
              <a:rPr b="0" lang="en-US" sz="1600" spc="-1" strike="noStrike" baseline="30000">
                <a:solidFill>
                  <a:srgbClr val="cc3300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= 4</a:t>
            </a:r>
            <a:r>
              <a:rPr b="0" i="1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c</a:t>
            </a:r>
            <a:r>
              <a:rPr b="0" lang="en-US" sz="1600" spc="-1" strike="noStrike" baseline="30000">
                <a:solidFill>
                  <a:srgbClr val="cc3300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, so </a:t>
            </a:r>
            <a:r>
              <a:rPr b="0" i="1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b</a:t>
            </a:r>
            <a:r>
              <a:rPr b="0" lang="en-US" sz="1600" spc="-1" strike="noStrike" baseline="30000">
                <a:solidFill>
                  <a:srgbClr val="cc3300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= 2</a:t>
            </a:r>
            <a:r>
              <a:rPr b="0" i="1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c</a:t>
            </a:r>
            <a:r>
              <a:rPr b="0" lang="en-US" sz="1600" spc="-1" strike="noStrike" baseline="30000">
                <a:solidFill>
                  <a:srgbClr val="cc3300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. This means that </a:t>
            </a:r>
            <a:r>
              <a:rPr b="0" i="1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b</a:t>
            </a:r>
            <a:r>
              <a:rPr b="0" lang="en-US" sz="1600" spc="-1" strike="noStrike" baseline="30000">
                <a:solidFill>
                  <a:srgbClr val="cc3300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is even. Hence, </a:t>
            </a:r>
            <a:r>
              <a:rPr b="0" i="1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b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mu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be even as well. It has been shows that 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Arial"/>
              </a:rPr>
              <a:t>¬</a:t>
            </a:r>
            <a:r>
              <a:rPr b="0" i="1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p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implies that (2)</a:t>
            </a:r>
            <a:r>
              <a:rPr b="0" lang="en-US" sz="1600" spc="-1" strike="noStrike" baseline="30000">
                <a:solidFill>
                  <a:srgbClr val="cc3300"/>
                </a:solidFill>
                <a:latin typeface="Times New Roman"/>
                <a:ea typeface="Times New Roman"/>
              </a:rPr>
              <a:t>1/2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a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/</a:t>
            </a:r>
            <a:r>
              <a:rPr b="0" i="1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b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, where </a:t>
            </a:r>
            <a:r>
              <a:rPr b="0" i="1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a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b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have 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common factors, and 2 divides </a:t>
            </a:r>
            <a:r>
              <a:rPr b="0" i="1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a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b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. This is a contradiction since we have shown that 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Arial"/>
              </a:rPr>
              <a:t>¬</a:t>
            </a:r>
            <a:r>
              <a:rPr b="0" i="1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implies both </a:t>
            </a:r>
            <a:r>
              <a:rPr b="0" i="1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r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and 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Arial"/>
              </a:rPr>
              <a:t>¬</a:t>
            </a:r>
            <a:r>
              <a:rPr b="0" i="1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r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where </a:t>
            </a:r>
            <a:r>
              <a:rPr b="0" i="1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r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is the statement that </a:t>
            </a:r>
            <a:r>
              <a:rPr b="0" i="1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a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b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are integers with no common facto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Hence, 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Arial"/>
              </a:rPr>
              <a:t>¬</a:t>
            </a:r>
            <a:r>
              <a:rPr b="0" i="1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p 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is false, so that </a:t>
            </a:r>
            <a:r>
              <a:rPr b="0" i="1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p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: “(2)</a:t>
            </a:r>
            <a:r>
              <a:rPr b="0" lang="en-US" sz="1600" spc="-1" strike="noStrike" baseline="30000">
                <a:solidFill>
                  <a:srgbClr val="cc3300"/>
                </a:solidFill>
                <a:latin typeface="Times New Roman"/>
                <a:ea typeface="Times New Roman"/>
              </a:rPr>
              <a:t>1/2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is irrational” is tru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62120" y="1397160"/>
            <a:ext cx="7772400" cy="11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3. Proof by Contradi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se that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¬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→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¬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ust be false. Consequently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ust be true. Th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que can be used whenever a contradiction can be foun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S-251 Slide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3307-5E55-4A07-A839-8C0FA5A27848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4B99AE-32F2-43E3-B91C-430297C1C8F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3.1: Methods of Pro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2120" y="1447920"/>
            <a:ext cx="7772400" cy="34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4. Proof by Ca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prove an implication of the 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∨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→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aut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∨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→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↔ [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→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)∧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→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) ∧ … ∧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→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an be used as a rule of inference. This shows that the original implication with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hypothesis made up of a disjunction of the proposition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, … 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can b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proved by proving each of th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implication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→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= 1, 2, … 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, individu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uch an argument is called a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proof by cas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S-251 Slide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AA77-AEE6-448B-931B-D8D26954D910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FC48E5-2422-4AF0-91A2-8F065A72058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09480" y="1295280"/>
            <a:ext cx="77724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  <a:ea typeface="Tahoma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e the implication “I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n integer not divisible by 3, the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(mod 3)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1981080"/>
            <a:ext cx="8077320" cy="51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Let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p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by the proposition “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n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is not divisible by 3,” and let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q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be the proposi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“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n</a:t>
            </a:r>
            <a:r>
              <a:rPr b="0" lang="en-US" sz="1800" spc="-1" strike="noStrike" baseline="30000">
                <a:solidFill>
                  <a:srgbClr val="cc3300"/>
                </a:solidFill>
                <a:latin typeface="Times New Roman"/>
                <a:ea typeface="Times New Roman"/>
              </a:rPr>
              <a:t>2 </a:t>
            </a:r>
            <a:r>
              <a:rPr b="0" lang="en-US" sz="1800" spc="-1" strike="noStrike">
                <a:solidFill>
                  <a:srgbClr val="cc33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1(mod 3).” Then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p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is equivalent to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p</a:t>
            </a:r>
            <a:r>
              <a:rPr b="0" lang="en-US" sz="1800" spc="-1" strike="noStrike" baseline="-25000">
                <a:solidFill>
                  <a:srgbClr val="cc3300"/>
                </a:solidFill>
                <a:latin typeface="Times New Roman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Arial"/>
              </a:rPr>
              <a:t>∨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p</a:t>
            </a:r>
            <a:r>
              <a:rPr b="0" lang="en-US" sz="1800" spc="-1" strike="noStrike" baseline="-25000">
                <a:solidFill>
                  <a:srgbClr val="cc33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where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p</a:t>
            </a:r>
            <a:r>
              <a:rPr b="0" lang="en-US" sz="1800" spc="-1" strike="noStrike" baseline="-25000">
                <a:solidFill>
                  <a:srgbClr val="cc3300"/>
                </a:solidFill>
                <a:latin typeface="Times New Roman"/>
                <a:ea typeface="Times New Roman"/>
              </a:rPr>
              <a:t>1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is “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n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1(mod 3)” and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p</a:t>
            </a:r>
            <a:r>
              <a:rPr b="0" lang="en-US" sz="1800" spc="-1" strike="noStrike" baseline="-25000">
                <a:solidFill>
                  <a:srgbClr val="cc3300"/>
                </a:solidFill>
                <a:latin typeface="Times New Roman"/>
                <a:ea typeface="Times New Roman"/>
              </a:rPr>
              <a:t>2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“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n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2(mod 3).” Hence, to show that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p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Arial"/>
              </a:rPr>
              <a:t>→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q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it can be shown that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p</a:t>
            </a:r>
            <a:r>
              <a:rPr b="0" lang="en-US" sz="1800" spc="-1" strike="noStrike" baseline="-25000">
                <a:solidFill>
                  <a:srgbClr val="cc3300"/>
                </a:solidFill>
                <a:latin typeface="Times New Roman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Arial"/>
              </a:rPr>
              <a:t>→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q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p</a:t>
            </a:r>
            <a:r>
              <a:rPr b="0" lang="en-US" sz="1800" spc="-1" strike="noStrike" baseline="-25000">
                <a:solidFill>
                  <a:srgbClr val="cc33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Arial"/>
              </a:rPr>
              <a:t>→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q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It is easy to give direct proves of those two implication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First, suppose that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p</a:t>
            </a:r>
            <a:r>
              <a:rPr b="0" lang="en-US" sz="1800" spc="-1" strike="noStrike" baseline="-25000">
                <a:solidFill>
                  <a:srgbClr val="cc3300"/>
                </a:solidFill>
                <a:latin typeface="Times New Roman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is true. Then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n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1(mod 3), so that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n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= 3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+ 1 for s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integer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k.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Thus,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n</a:t>
            </a:r>
            <a:r>
              <a:rPr b="0" lang="en-US" sz="1800" spc="-1" strike="noStrike" baseline="30000">
                <a:solidFill>
                  <a:srgbClr val="cc33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= 9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k</a:t>
            </a:r>
            <a:r>
              <a:rPr b="0" lang="en-US" sz="1800" spc="-1" strike="noStrike" baseline="30000">
                <a:solidFill>
                  <a:srgbClr val="cc33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+ 6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+ 1 = 3(3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k</a:t>
            </a:r>
            <a:r>
              <a:rPr b="0" lang="en-US" sz="1800" spc="-1" strike="noStrike" baseline="30000">
                <a:solidFill>
                  <a:srgbClr val="cc33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+ 2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) + 1. It follows that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n</a:t>
            </a:r>
            <a:r>
              <a:rPr b="0" lang="en-US" sz="1800" spc="-1" strike="noStrike" baseline="30000">
                <a:solidFill>
                  <a:srgbClr val="cc33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1(mod 3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Hence, the implication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p</a:t>
            </a:r>
            <a:r>
              <a:rPr b="0" lang="en-US" sz="1800" spc="-1" strike="noStrike" baseline="-25000">
                <a:solidFill>
                  <a:srgbClr val="cc3300"/>
                </a:solidFill>
                <a:latin typeface="Times New Roman"/>
                <a:ea typeface="Times New Roman"/>
              </a:rPr>
              <a:t>1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Arial"/>
              </a:rPr>
              <a:t>→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q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is tru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Next suppose that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p</a:t>
            </a:r>
            <a:r>
              <a:rPr b="0" lang="en-US" sz="1800" spc="-1" strike="noStrike" baseline="-25000">
                <a:solidFill>
                  <a:srgbClr val="cc33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is true. Then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n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2(mod 3), so that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n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= 3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+ 2 for some integer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k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Thus,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n</a:t>
            </a:r>
            <a:r>
              <a:rPr b="0" lang="en-US" sz="1800" spc="-1" strike="noStrike" baseline="30000">
                <a:solidFill>
                  <a:srgbClr val="cc33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= 9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k</a:t>
            </a:r>
            <a:r>
              <a:rPr b="0" lang="en-US" sz="1800" spc="-1" strike="noStrike" baseline="30000">
                <a:solidFill>
                  <a:srgbClr val="cc33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+ 12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+ 4 = 3(3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k</a:t>
            </a:r>
            <a:r>
              <a:rPr b="0" lang="en-US" sz="1800" spc="-1" strike="noStrike" baseline="30000">
                <a:solidFill>
                  <a:srgbClr val="cc33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+ 4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k +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1) + 1. Hence,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n</a:t>
            </a:r>
            <a:r>
              <a:rPr b="0" lang="en-US" sz="1800" spc="-1" strike="noStrike" baseline="30000">
                <a:solidFill>
                  <a:srgbClr val="cc33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1(mod 3), so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implication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p</a:t>
            </a:r>
            <a:r>
              <a:rPr b="0" lang="en-US" sz="1800" spc="-1" strike="noStrike" baseline="-25000">
                <a:solidFill>
                  <a:srgbClr val="cc33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Arial"/>
              </a:rPr>
              <a:t>→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q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is tru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Since it has been shown that both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p</a:t>
            </a:r>
            <a:r>
              <a:rPr b="0" lang="en-US" sz="1800" spc="-1" strike="noStrike" baseline="-25000">
                <a:solidFill>
                  <a:srgbClr val="cc3300"/>
                </a:solidFill>
                <a:latin typeface="Times New Roman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Arial"/>
              </a:rPr>
              <a:t>→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q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and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p</a:t>
            </a:r>
            <a:r>
              <a:rPr b="0" lang="en-US" sz="1800" spc="-1" strike="noStrike" baseline="-25000">
                <a:solidFill>
                  <a:srgbClr val="cc33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Arial"/>
              </a:rPr>
              <a:t>→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q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are true, it can be concluded th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p</a:t>
            </a:r>
            <a:r>
              <a:rPr b="0" lang="en-US" sz="1800" spc="-1" strike="noStrike" baseline="-25000">
                <a:solidFill>
                  <a:srgbClr val="cc3300"/>
                </a:solidFill>
                <a:latin typeface="Times New Roman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Arial"/>
              </a:rPr>
              <a:t>∨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p</a:t>
            </a:r>
            <a:r>
              <a:rPr b="0" lang="en-US" sz="1800" spc="-1" strike="noStrike" baseline="-25000">
                <a:solidFill>
                  <a:srgbClr val="cc33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)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Arial"/>
              </a:rPr>
              <a:t>→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q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is true. Moreover, since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p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is equivalent to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p</a:t>
            </a:r>
            <a:r>
              <a:rPr b="0" lang="en-US" sz="1800" spc="-1" strike="noStrike" baseline="-25000">
                <a:solidFill>
                  <a:srgbClr val="cc3300"/>
                </a:solidFill>
                <a:latin typeface="Times New Roman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Arial"/>
              </a:rPr>
              <a:t>∨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p</a:t>
            </a:r>
            <a:r>
              <a:rPr b="0" lang="en-US" sz="1800" spc="-1" strike="noStrike" baseline="-25000">
                <a:solidFill>
                  <a:srgbClr val="cc33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. It follows that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p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Arial"/>
              </a:rPr>
              <a:t>→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is tru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S-251 Slide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EC1B-F04B-4896-9397-D957480D7FA0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D57B23-5C2D-4083-827E-59158065780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8580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3.1: Methods of Pro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12952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  <a:ea typeface="Tahoma"/>
              </a:rPr>
              <a:t>Theorems and Quantifi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4572000"/>
            <a:ext cx="807696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Let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= (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n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+ 1)! + 1. Consider the integers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+ 1,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+ 2, … ,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+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n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Note that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i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+ 1 divides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+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i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= (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n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+ 1)! + (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i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+ 1) for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i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= 1, 2, … ,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n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. Hence,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n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consecutive composite positive integers have been given. Note that in the solution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number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such that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 + i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is composite for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i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= 1, 2, … ,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n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has been produced. Henc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this is an example of constructive existence proof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62120" y="3276720"/>
            <a:ext cx="7772400" cy="1356840"/>
            <a:chOff x="762120" y="3276720"/>
            <a:chExt cx="7772400" cy="1356840"/>
          </a:xfrm>
        </p:grpSpPr>
        <p:sp>
          <p:nvSpPr>
            <p:cNvPr id="159" name=""/>
            <p:cNvSpPr/>
            <p:nvPr/>
          </p:nvSpPr>
          <p:spPr>
            <a:xfrm>
              <a:off x="762120" y="3276720"/>
              <a:ext cx="7772400" cy="103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  <a:ea typeface="Tahoma"/>
                </a:rPr>
                <a:t>Exampl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how that there are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secutive composite positive integers for every posit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teger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te that this asks for proof of the quantification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0" name=""/>
                <p:cNvSpPr txBox="1"/>
                <p:nvPr/>
              </p:nvSpPr>
              <p:spPr>
                <a:xfrm>
                  <a:off x="838080" y="4292640"/>
                  <a:ext cx="4496040" cy="340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∀</m:t>
                      </m:r>
                      <m:r>
                        <m:t xml:space="preserve">n</m:t>
                      </m:r>
                      <m:r>
                        <m:t xml:space="preserve">∃</m:t>
                      </m:r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i</m:t>
                      </m:r>
                      <m:r>
                        <m:rPr>
                          <m:lit/>
                          <m:nor/>
                        </m:rPr>
                        <m:t xml:space="preserve"> is composite for </m:t>
                      </m:r>
                      <m:r>
                        <m:rPr>
                          <m:lit/>
                          <m:nor/>
                        </m:rPr>
                        <m:t xml:space="preserve">i 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, 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,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 , n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1" name=""/>
          <p:cNvGrpSpPr/>
          <p:nvPr/>
        </p:nvGrpSpPr>
        <p:grpSpPr>
          <a:xfrm>
            <a:off x="762120" y="1812960"/>
            <a:ext cx="7772400" cy="1393560"/>
            <a:chOff x="762120" y="1812960"/>
            <a:chExt cx="7772400" cy="1393560"/>
          </a:xfrm>
        </p:grpSpPr>
        <p:sp>
          <p:nvSpPr>
            <p:cNvPr id="162" name=""/>
            <p:cNvSpPr/>
            <p:nvPr/>
          </p:nvSpPr>
          <p:spPr>
            <a:xfrm>
              <a:off x="762120" y="1812960"/>
              <a:ext cx="7772400" cy="13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Times New Roman"/>
                  <a:ea typeface="Times New Roman"/>
                </a:rPr>
                <a:t>1. Constructive Existential Proof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proof of a proposition of the form               is called an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istence proof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ometimes the proof of               can be given by finding an element a such tha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is true. Such an existence proof is called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structive existence proof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3" name=""/>
                <p:cNvSpPr txBox="1"/>
                <p:nvPr/>
              </p:nvSpPr>
              <p:spPr>
                <a:xfrm>
                  <a:off x="4191120" y="2209680"/>
                  <a:ext cx="850680" cy="35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∃</m:t>
                      </m:r>
                      <m:r>
                        <m:rPr>
                          <m:lit/>
                          <m:nor/>
                        </m:rPr>
                        <m:t xml:space="preserve">x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4" name=""/>
                <p:cNvSpPr txBox="1"/>
                <p:nvPr/>
              </p:nvSpPr>
              <p:spPr>
                <a:xfrm>
                  <a:off x="3048120" y="2514600"/>
                  <a:ext cx="850680" cy="35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∃</m:t>
                      </m:r>
                      <m:r>
                        <m:rPr>
                          <m:lit/>
                          <m:nor/>
                        </m:rPr>
                        <m:t xml:space="preserve">x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S-251 Slide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EA32-442E-4E08-A5F3-12C19ADAAA36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A2FCFC-2F67-430D-8639-D7E6E92ADD5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8580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3.1: Methods of Pro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976560"/>
            <a:ext cx="807696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Let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n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be a positive integer. To show that there is a prime greater than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n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, consider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integer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n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! + 1. Since every integer has a prime factor, there is at least one prim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dividing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n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! + 1. (One possibility is that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n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! + 1 is already prime.) Note that wh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n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! + 1 is divided by an integer less than or equal to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n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, the reminder equals 1. Henc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any prime factor of this integer must be greater than n. This proves the result. Thi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argument is a nonconstructive existence proof because a prime larger than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n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has n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been produced. It has simply been shown that one must exis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62120" y="2286000"/>
            <a:ext cx="7772400" cy="1968840"/>
            <a:chOff x="762120" y="2286000"/>
            <a:chExt cx="7772400" cy="1968840"/>
          </a:xfrm>
        </p:grpSpPr>
        <p:sp>
          <p:nvSpPr>
            <p:cNvPr id="168" name=""/>
            <p:cNvSpPr/>
            <p:nvPr/>
          </p:nvSpPr>
          <p:spPr>
            <a:xfrm>
              <a:off x="762120" y="2286000"/>
              <a:ext cx="7772400" cy="19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  <a:ea typeface="Tahoma"/>
                </a:rPr>
                <a:t>Exampl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how that for every positive integer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ere is a prime greater than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This probl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sks for a proof of existential quantification, namely,                 where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is th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position “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prime and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greater than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” and the universe of discourse 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set of positive integers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9" name=""/>
                <p:cNvSpPr txBox="1"/>
                <p:nvPr/>
              </p:nvSpPr>
              <p:spPr>
                <a:xfrm>
                  <a:off x="5753160" y="2971800"/>
                  <a:ext cx="876240" cy="33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∃</m:t>
                      </m:r>
                      <m:r>
                        <m:rPr>
                          <m:lit/>
                          <m:nor/>
                        </m:rPr>
                        <m:t xml:space="preserve">xQ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0" name=""/>
          <p:cNvGrpSpPr/>
          <p:nvPr/>
        </p:nvGrpSpPr>
        <p:grpSpPr>
          <a:xfrm>
            <a:off x="762120" y="1219320"/>
            <a:ext cx="7772400" cy="1062000"/>
            <a:chOff x="762120" y="1219320"/>
            <a:chExt cx="7772400" cy="1062000"/>
          </a:xfrm>
        </p:grpSpPr>
        <p:sp>
          <p:nvSpPr>
            <p:cNvPr id="171" name=""/>
            <p:cNvSpPr/>
            <p:nvPr/>
          </p:nvSpPr>
          <p:spPr>
            <a:xfrm>
              <a:off x="762120" y="1219320"/>
              <a:ext cx="77724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Times New Roman"/>
                  <a:ea typeface="Times New Roman"/>
                </a:rPr>
                <a:t>2. Nonconstructive Existential Proof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ere, we use proof by contradiction. That is, to prove that               is true,  w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ve that                  is false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2" name=""/>
                <p:cNvSpPr txBox="1"/>
                <p:nvPr/>
              </p:nvSpPr>
              <p:spPr>
                <a:xfrm>
                  <a:off x="6172200" y="1600200"/>
                  <a:ext cx="851040" cy="35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∃</m:t>
                      </m:r>
                      <m:r>
                        <m:rPr>
                          <m:lit/>
                          <m:nor/>
                        </m:rPr>
                        <m:t xml:space="preserve">x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3" name=""/>
                <p:cNvSpPr txBox="1"/>
                <p:nvPr/>
              </p:nvSpPr>
              <p:spPr>
                <a:xfrm>
                  <a:off x="1790640" y="1905120"/>
                  <a:ext cx="1028880" cy="35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¬</m:t>
                      </m:r>
                      <m:r>
                        <m:t xml:space="preserve">∃</m:t>
                      </m:r>
                      <m:r>
                        <m:rPr>
                          <m:lit/>
                          <m:nor/>
                        </m:rPr>
                        <m:t xml:space="preserve">x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S-251 Slide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733E-885D-43EB-9415-1292C5D0BABF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90FF62-BC07-476A-932A-30711D4DBC6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762120" y="2819520"/>
            <a:ext cx="77724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  <a:ea typeface="Tahoma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 that “All primes are odd” is fal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3.1: Methods of Pro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762120" y="3646440"/>
            <a:ext cx="8076960" cy="1694520"/>
            <a:chOff x="762120" y="3646440"/>
            <a:chExt cx="8076960" cy="1694520"/>
          </a:xfrm>
        </p:grpSpPr>
        <p:sp>
          <p:nvSpPr>
            <p:cNvPr id="177" name=""/>
            <p:cNvSpPr/>
            <p:nvPr/>
          </p:nvSpPr>
          <p:spPr>
            <a:xfrm>
              <a:off x="762120" y="3646440"/>
              <a:ext cx="8076960" cy="16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The statement “all primes are odd” is a universal quantification, namely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where </a:t>
              </a:r>
              <a:r>
                <a:rPr b="0" i="1" lang="en-US" sz="18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O</a:t>
              </a:r>
              <a:r>
                <a:rPr b="0" lang="en-US" sz="18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18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8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) is the proposition “</a:t>
              </a:r>
              <a:r>
                <a:rPr b="0" i="1" lang="en-US" sz="18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8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 is odd,” and the universe of discourse is the set of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primes. Note that </a:t>
              </a:r>
              <a:r>
                <a:rPr b="0" i="1" lang="en-US" sz="18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8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 = 2 is a counter example, since 2 is a prime number that is even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Hence, the statement “All primes are odd” is false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8" name=""/>
                <p:cNvSpPr txBox="1"/>
                <p:nvPr/>
              </p:nvSpPr>
              <p:spPr>
                <a:xfrm>
                  <a:off x="838080" y="3998880"/>
                  <a:ext cx="897120" cy="33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∀</m:t>
                      </m:r>
                      <m:r>
                        <m:rPr>
                          <m:lit/>
                          <m:nor/>
                        </m:rPr>
                        <m:t xml:space="preserve">xO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9" name=""/>
          <p:cNvGrpSpPr/>
          <p:nvPr/>
        </p:nvGrpSpPr>
        <p:grpSpPr>
          <a:xfrm>
            <a:off x="762120" y="1371600"/>
            <a:ext cx="7772400" cy="1062000"/>
            <a:chOff x="762120" y="1371600"/>
            <a:chExt cx="7772400" cy="1062000"/>
          </a:xfrm>
        </p:grpSpPr>
        <p:sp>
          <p:nvSpPr>
            <p:cNvPr id="180" name=""/>
            <p:cNvSpPr/>
            <p:nvPr/>
          </p:nvSpPr>
          <p:spPr>
            <a:xfrm>
              <a:off x="762120" y="1371600"/>
              <a:ext cx="77724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Times New Roman"/>
                  <a:ea typeface="Times New Roman"/>
                </a:rPr>
                <a:t>3. Counterexample Proof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ppose we want to prove that                is false. Then, it is sufficient to prove th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is false for some values of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1" name=""/>
                <p:cNvSpPr txBox="1"/>
                <p:nvPr/>
              </p:nvSpPr>
              <p:spPr>
                <a:xfrm>
                  <a:off x="3710160" y="1774800"/>
                  <a:ext cx="873000" cy="35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∀</m:t>
                      </m:r>
                      <m:r>
                        <m:rPr>
                          <m:lit/>
                          <m:nor/>
                        </m:rPr>
                        <m:t xml:space="preserve">x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S-251 Slide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07A7-C5E8-4DA3-9E4F-019E56C0F696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1F5FB9-3008-4548-84E3-5932A7C181F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3.1: Methods of Proof</a:t>
            </a: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1335240"/>
            <a:ext cx="777240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ahoma"/>
                <a:ea typeface="Tahoma"/>
              </a:rPr>
              <a:t>Important Defini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orem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tatement that can be shown to be true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of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equence of statements that forms an argum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ioms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erlying assumptions about mathematical structure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theses of the theorem to be proved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iously proved theorem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les of Inference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s used to draw conclusions from other assertions, whi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 together the steps of a proof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mma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imple theorem used in the proof of other theore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ollary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roposition that can be established directly from a theor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jecture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tatement whose truth value is unknow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S-251 Slid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96F9-8977-4E31-A4CD-8C2EBE69D22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91D952-9467-46D4-B9A5-B93306045B8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3.1: Methods of Proof</a:t>
            </a: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5105520" y="5610240"/>
            <a:ext cx="26668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junctiv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llog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5991120"/>
            <a:ext cx="4305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991040" y="5029200"/>
            <a:ext cx="293364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thetica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llog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9040" y="5278320"/>
            <a:ext cx="43052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4495680"/>
            <a:ext cx="278136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ll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9040" y="4564080"/>
            <a:ext cx="43052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3851280"/>
            <a:ext cx="43056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s pon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9040" y="3851280"/>
            <a:ext cx="43052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3352680"/>
            <a:ext cx="4305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j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9040" y="3208320"/>
            <a:ext cx="43052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05240" y="2790720"/>
            <a:ext cx="4305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9040" y="2494080"/>
            <a:ext cx="43052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2233440"/>
            <a:ext cx="43056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9040" y="1781280"/>
            <a:ext cx="43052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81560" y="1676520"/>
            <a:ext cx="43052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Rule of Inference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9040" y="1676520"/>
            <a:ext cx="43052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aut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23960" y="1752480"/>
            <a:ext cx="7618320" cy="180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23960" y="2313000"/>
            <a:ext cx="7618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23960" y="2870280"/>
            <a:ext cx="76183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23960" y="3430440"/>
            <a:ext cx="76183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23960" y="3933720"/>
            <a:ext cx="76183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23960" y="4492800"/>
            <a:ext cx="76183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23960" y="5052960"/>
            <a:ext cx="76183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960" y="5611680"/>
            <a:ext cx="7618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23960" y="6170760"/>
            <a:ext cx="7618320" cy="14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23960" y="1752480"/>
            <a:ext cx="1440" cy="44182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33840" y="1752480"/>
            <a:ext cx="0" cy="441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42280" y="1752480"/>
            <a:ext cx="1800" cy="44182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663560" y="2362320"/>
                <a:ext cx="17272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→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∨</m:t>
                    </m:r>
                    <m:r>
                      <m:t xml:space="preserve">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1681200" y="2914560"/>
                <a:ext cx="17272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∧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133640" y="3448080"/>
                <a:ext cx="282384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∧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∧</m:t>
                    </m:r>
                    <m:r>
                      <m:t xml:space="preserve">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1374840" y="3981600"/>
                <a:ext cx="25495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p</m:t>
                    </m:r>
                    <m:r>
                      <m:t xml:space="preserve">∧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→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→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800280" y="5181480"/>
                <a:ext cx="36576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→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∧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→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→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→</m:t>
                    </m:r>
                    <m:r>
                      <m:t xml:space="preserve">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395360" y="5715000"/>
                <a:ext cx="214812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∨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∧</m:t>
                    </m:r>
                    <m:r>
                      <m:t xml:space="preserve">¬</m:t>
                    </m:r>
                    <m:r>
                      <m:t xml:space="preserve">p</m:t>
                    </m:r>
                    <m:r>
                      <m:t xml:space="preserve">]</m:t>
                    </m:r>
                    <m:r>
                      <m:t xml:space="preserve">→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216080" y="4572000"/>
                <a:ext cx="28605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¬</m:t>
                    </m:r>
                    <m:r>
                      <m:t xml:space="preserve">q</m:t>
                    </m:r>
                    <m:r>
                      <m:t xml:space="preserve">∧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→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→</m:t>
                    </m:r>
                    <m:r>
                      <m:t xml:space="preserve">¬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80880" y="129528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ahoma"/>
                <a:ea typeface="Tahoma"/>
              </a:rPr>
              <a:t>Rules of Infere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S-251 Slid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BE07-DC58-4054-8737-C9254964689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4BE3D1-61B6-4C13-BF43-5908E251F9B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3.1: Methods of Proof</a:t>
            </a: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1295280"/>
            <a:ext cx="777240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  <a:ea typeface="Tahoma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se that the implication “if it snows today, then we will go skiing” and 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thesis, “it is snowing today,” are true. Then, by modus ponens, it follows th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nclusion of the implication, “we will go skiing,” is tru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2666880"/>
            <a:ext cx="777240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  <a:ea typeface="Tahoma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mplication “i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divisible by 3, the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divisible by 9,” is tru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quently, i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divisible by 3, then by modus ponens, if follows tha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sible by 9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4078440"/>
            <a:ext cx="77724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  <a:ea typeface="Tahoma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 that the hypotheses “If you send me an e-mail message, then I will fini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he program,” “If you do not send me an e-mail message, then I will go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eep early,” and “If I go to sleep early, then I will wake up feeling refreshe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d to the conclusion “If I do not finish writing the program, then I will wake 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eling refreshed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94120" y="571500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Can you show that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S-251 Slid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697F-8DD3-442A-84A3-03D08C7B420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CF32F2-09AB-483C-8A5E-6D5E909AE388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3.1: Methods of Proof</a:t>
            </a: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762120" y="1295280"/>
            <a:ext cx="7772400" cy="2490480"/>
            <a:chOff x="762120" y="1295280"/>
            <a:chExt cx="7772400" cy="2490480"/>
          </a:xfrm>
        </p:grpSpPr>
        <p:sp>
          <p:nvSpPr>
            <p:cNvPr id="90" name=""/>
            <p:cNvSpPr/>
            <p:nvPr/>
          </p:nvSpPr>
          <p:spPr>
            <a:xfrm>
              <a:off x="762120" y="1295280"/>
              <a:ext cx="1447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0000"/>
                  </a:solidFill>
                  <a:latin typeface="Tahoma"/>
                  <a:ea typeface="Tahoma"/>
                </a:rPr>
                <a:t>Fallacie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" name=""/>
                <p:cNvSpPr txBox="1"/>
                <p:nvPr/>
              </p:nvSpPr>
              <p:spPr>
                <a:xfrm>
                  <a:off x="838080" y="2743200"/>
                  <a:ext cx="198144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[</m:t>
                      </m:r>
                      <m:r>
                        <m:t xml:space="preserve">(</m:t>
                      </m:r>
                      <m:r>
                        <m:t xml:space="preserve">p</m:t>
                      </m:r>
                      <m:r>
                        <m:t xml:space="preserve">→</m:t>
                      </m:r>
                      <m:r>
                        <m:t xml:space="preserve">q</m:t>
                      </m:r>
                      <m:r>
                        <m:t xml:space="preserve">)</m:t>
                      </m:r>
                      <m:r>
                        <m:t xml:space="preserve">∧</m:t>
                      </m:r>
                      <m:r>
                        <m:t xml:space="preserve">q</m:t>
                      </m:r>
                      <m:r>
                        <m:t xml:space="preserve">]</m:t>
                      </m:r>
                      <m:r>
                        <m:t xml:space="preserve">→</m:t>
                      </m:r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2" name=""/>
            <p:cNvSpPr/>
            <p:nvPr/>
          </p:nvSpPr>
          <p:spPr>
            <a:xfrm>
              <a:off x="762120" y="1676520"/>
              <a:ext cx="7772400" cy="210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ules of inference that are based on contingencies rather than tautologies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Times New Roman"/>
                  <a:ea typeface="Times New Roman"/>
                </a:rPr>
                <a:t>1. Affirming the Conclusio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s not a tautology, since it is false when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false 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true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762120" y="3443400"/>
            <a:ext cx="777240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  <a:ea typeface="Tahoma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following argument vali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you do every problem in this book, then you will learn discrete mathemat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learned discrete mathematics. Therefore you did every problem in this boo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4800600"/>
            <a:ext cx="777240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Let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p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be “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You did every problem in this book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,” and let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q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be “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You learned discr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mathematics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.” Then, this argument is of the form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p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Arial"/>
              </a:rPr>
              <a:t>→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q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q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, then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p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. This is 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example of an incorrect argument using the fallacy of affirming the conclus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Indeed, it is possible for you to learn discrete mathematics in some other wa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S-251 Slid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789F-0CAB-4319-9077-4862B1C770E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F1AB4E-CB8F-4163-8F28-3344C3C69BA8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3.1: Methods of Proof</a:t>
            </a: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762120" y="1295280"/>
            <a:ext cx="7772400" cy="1135440"/>
            <a:chOff x="762120" y="1295280"/>
            <a:chExt cx="7772400" cy="1135440"/>
          </a:xfrm>
        </p:grpSpPr>
        <mc:AlternateContent>
          <mc:Choice xmlns:a14="http://schemas.microsoft.com/office/drawing/2010/main" Requires="a14">
            <p:sp>
              <p:nvSpPr>
                <p:cNvPr id="97" name=""/>
                <p:cNvSpPr txBox="1"/>
                <p:nvPr/>
              </p:nvSpPr>
              <p:spPr>
                <a:xfrm>
                  <a:off x="838080" y="1719360"/>
                  <a:ext cx="2286000" cy="33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[</m:t>
                      </m:r>
                      <m:r>
                        <m:t xml:space="preserve">(</m:t>
                      </m:r>
                      <m:r>
                        <m:t xml:space="preserve">p</m:t>
                      </m:r>
                      <m:r>
                        <m:t xml:space="preserve">→</m:t>
                      </m:r>
                      <m:r>
                        <m:t xml:space="preserve">q</m:t>
                      </m:r>
                      <m:r>
                        <m:t xml:space="preserve">)</m:t>
                      </m:r>
                      <m:r>
                        <m:t xml:space="preserve">∧</m:t>
                      </m:r>
                      <m:r>
                        <m:t xml:space="preserve">¬</m:t>
                      </m:r>
                      <m:r>
                        <m:t xml:space="preserve">p</m:t>
                      </m:r>
                      <m:r>
                        <m:t xml:space="preserve">]</m:t>
                      </m:r>
                      <m:r>
                        <m:t xml:space="preserve">→</m:t>
                      </m:r>
                      <m:r>
                        <m:t xml:space="preserve">¬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8" name=""/>
            <p:cNvSpPr/>
            <p:nvPr/>
          </p:nvSpPr>
          <p:spPr>
            <a:xfrm>
              <a:off x="762120" y="1295280"/>
              <a:ext cx="7772400" cy="11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Times New Roman"/>
                  <a:ea typeface="Times New Roman"/>
                </a:rPr>
                <a:t>2. Denying the Hypothesi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s not a tautology, since it is false when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alse and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true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762120" y="4662360"/>
            <a:ext cx="777240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It is possible that you learned discrete mathematics even if you did not do e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problem in this book. This incorrect argument is of the form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p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Arial"/>
              </a:rPr>
              <a:t>→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q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and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Arial"/>
              </a:rPr>
              <a:t>¬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p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impl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Arial"/>
              </a:rPr>
              <a:t>¬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q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, which is an example of the fallacy of denying the hypothesi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514600"/>
            <a:ext cx="77724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  <a:ea typeface="Tahoma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 as in the previous example. If the implica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→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rue,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¬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is true, is it correct to conclude that ¬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is true? In other words, is it correct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ssume that you did not learn discrete mathematics if you did not do eve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problem in the book, assuming that if you do every problem in this book, then yo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will learn discrete mathematic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S-251 Slid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6854-C226-4143-8272-112EAE02D4A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1E6942-5EF5-4933-A6FD-480C5AE1ADE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3.1: Methods of Pro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1295280"/>
            <a:ext cx="7772400" cy="13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3. Begging the Question:(Circular Reason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s when one or more steps of a proof are based on the truth of the state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ing proved. In other words, this fallacy arises when a statement is proved u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self, or a statement equivalent to i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4484520"/>
            <a:ext cx="777240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This argument is incorrect. The statement “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Let n = 2l for some integer l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” occurs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the proof. No argument has been given to show that it is true. This is circ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reasoning because this statement is equivalent to the statement being prove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namely, “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n is even.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” Of course, the result itself is correct; only the method of pro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is wro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2706840"/>
            <a:ext cx="777240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  <a:ea typeface="Tahoma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following correct? It supposedly shows tha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n even integer whene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n even integ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se that 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even. Then  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k  for some integer k. Let n = 2t for s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er l. This shows that n is eve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S-251 Slide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7360-B475-4ACB-9708-2D8B4372FB42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0D25ED-A8D4-41A4-8E38-3C562D8A19C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3.1: Methods of Proof</a:t>
            </a: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990720" y="1828800"/>
          <a:ext cx="7162560" cy="4267080"/>
        </p:xfrm>
        <a:graphic>
          <a:graphicData uri="http://schemas.openxmlformats.org/drawingml/2006/table">
            <a:tbl>
              <a:tblPr/>
              <a:tblGrid>
                <a:gridCol w="4373280"/>
                <a:gridCol w="2789280"/>
              </a:tblGrid>
              <a:tr h="414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le of In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iversal instanti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iversal generaliz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istential instanti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istential generaliz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286000" y="2362320"/>
                <a:ext cx="187956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∀</m:t>
                        </m:r>
                        <m:r>
                          <m:rPr>
                            <m:lit/>
                            <m:nor/>
                          </m:rPr>
                          <m:t xml:space="preserve">x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∴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if </m:t>
                        </m:r>
                        <m:r>
                          <m:t xml:space="preserve">c</m:t>
                        </m:r>
                        <m:r>
                          <m:t xml:space="preserve">∈</m:t>
                        </m:r>
                        <m:r>
                          <m:t xml:space="preserve">U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612800" y="3276720"/>
                <a:ext cx="318780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for an arbitrary </m:t>
                        </m:r>
                        <m:r>
                          <m:t xml:space="preserve">c</m:t>
                        </m:r>
                        <m:r>
                          <m:t xml:space="preserve">∈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∴</m:t>
                        </m:r>
                        <m:r>
                          <m:t xml:space="preserve">∀</m:t>
                        </m:r>
                        <m:r>
                          <m:rPr>
                            <m:lit/>
                            <m:nor/>
                          </m:rPr>
                          <m:t xml:space="preserve">x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67000" y="5221440"/>
                <a:ext cx="340992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for some element </m:t>
                        </m:r>
                        <m:r>
                          <m:t xml:space="preserve">c</m:t>
                        </m:r>
                        <m:r>
                          <m:t xml:space="preserve">∈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∴</m:t>
                        </m:r>
                        <m:r>
                          <m:t xml:space="preserve">∃</m:t>
                        </m:r>
                        <m:r>
                          <m:rPr>
                            <m:lit/>
                            <m:nor/>
                          </m:rPr>
                          <m:t xml:space="preserve">x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373040" y="4267080"/>
                <a:ext cx="365616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∃</m:t>
                        </m:r>
                        <m:r>
                          <m:rPr>
                            <m:lit/>
                            <m:nor/>
                          </m:rPr>
                          <m:t xml:space="preserve">x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∴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for some element </m:t>
                        </m:r>
                        <m:r>
                          <m:t xml:space="preserve">c</m:t>
                        </m:r>
                        <m:r>
                          <m:t xml:space="preserve">∈</m:t>
                        </m:r>
                        <m:r>
                          <m:t xml:space="preserve">U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380880" y="135576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ahoma"/>
                <a:ea typeface="Tahoma"/>
              </a:rPr>
              <a:t>Rules of Inference for Quantified State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S-251 Slid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7FCA-DAD1-4623-A508-A77AF62D2A0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1FA2AB-4214-4AC3-A483-5D2C5211E11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580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3.1: Methods of Pro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1295280"/>
            <a:ext cx="777240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  <a:ea typeface="Tahoma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 that the premises “Everyone in this discrete mathematics class has taken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se in computer science” and “Marla is a student in this class” imply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 “Marla has taken a course in computer science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762120" y="2666880"/>
            <a:ext cx="7772400" cy="1362960"/>
            <a:chOff x="762120" y="2666880"/>
            <a:chExt cx="7772400" cy="1362960"/>
          </a:xfrm>
        </p:grpSpPr>
        <p:sp>
          <p:nvSpPr>
            <p:cNvPr id="115" name=""/>
            <p:cNvSpPr/>
            <p:nvPr/>
          </p:nvSpPr>
          <p:spPr>
            <a:xfrm>
              <a:off x="762120" y="2666880"/>
              <a:ext cx="7772400" cy="136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Let </a:t>
              </a:r>
              <a:r>
                <a:rPr b="0" i="1" lang="en-US" sz="18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D</a:t>
              </a:r>
              <a:r>
                <a:rPr b="0" lang="en-US" sz="18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18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8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) denote “</a:t>
              </a:r>
              <a:r>
                <a:rPr b="0" i="1" lang="en-US" sz="18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8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 is in this discrete mathematics class” and </a:t>
              </a:r>
              <a:r>
                <a:rPr b="0" i="1" lang="en-US" sz="18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C</a:t>
              </a:r>
              <a:r>
                <a:rPr b="0" lang="en-US" sz="18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18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8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) denote “</a:t>
              </a:r>
              <a:r>
                <a:rPr b="0" i="1" lang="en-US" sz="18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8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 h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taken a course in computer science.” Then the premises are    </a:t>
              </a:r>
              <a:r>
                <a:rPr b="0" i="1" lang="en-US" sz="18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8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18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D</a:t>
              </a:r>
              <a:r>
                <a:rPr b="0" lang="en-US" sz="18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18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8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) </a:t>
              </a:r>
              <a:r>
                <a:rPr b="0" lang="en-US" sz="1800" spc="-1" strike="noStrike">
                  <a:solidFill>
                    <a:srgbClr val="cc3300"/>
                  </a:solidFill>
                  <a:latin typeface="Times New Roman"/>
                  <a:ea typeface="Arial"/>
                </a:rPr>
                <a:t>→</a:t>
              </a:r>
              <a:r>
                <a:rPr b="0" lang="en-US" sz="18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18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C</a:t>
              </a:r>
              <a:r>
                <a:rPr b="0" lang="en-US" sz="18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18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8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)) 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D</a:t>
              </a:r>
              <a:r>
                <a:rPr b="0" lang="en-US" sz="18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(Marla). The conclusion is </a:t>
              </a:r>
              <a:r>
                <a:rPr b="0" i="1" lang="en-US" sz="18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C</a:t>
              </a:r>
              <a:r>
                <a:rPr b="0" lang="en-US" sz="18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(Marla). The following steps can be used 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establish the conclusion from the premises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6" name=""/>
                <p:cNvSpPr txBox="1"/>
                <p:nvPr/>
              </p:nvSpPr>
              <p:spPr>
                <a:xfrm>
                  <a:off x="6286680" y="3048120"/>
                  <a:ext cx="280800" cy="30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∀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7" name=""/>
          <p:cNvGrpSpPr/>
          <p:nvPr/>
        </p:nvGrpSpPr>
        <p:grpSpPr>
          <a:xfrm>
            <a:off x="1523880" y="4191120"/>
            <a:ext cx="6096240" cy="1981080"/>
            <a:chOff x="1523880" y="4191120"/>
            <a:chExt cx="6096240" cy="1981080"/>
          </a:xfrm>
        </p:grpSpPr>
        <p:sp>
          <p:nvSpPr>
            <p:cNvPr id="118" name=""/>
            <p:cNvSpPr/>
            <p:nvPr/>
          </p:nvSpPr>
          <p:spPr>
            <a:xfrm>
              <a:off x="4572000" y="5776920"/>
              <a:ext cx="30481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dus ponens using Steps 2 and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23880" y="5776920"/>
              <a:ext cx="30481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Marl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72000" y="5380200"/>
              <a:ext cx="30481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emi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523880" y="5380200"/>
              <a:ext cx="30481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Marl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0" y="4983120"/>
              <a:ext cx="30481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niversal instantiation using Step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23880" y="4983120"/>
              <a:ext cx="30481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Marla)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→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Marl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72000" y="4586400"/>
              <a:ext cx="30481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emi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23880" y="4586400"/>
              <a:ext cx="30481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→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72000" y="4191120"/>
              <a:ext cx="30481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a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23880" y="4191120"/>
              <a:ext cx="30481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e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72000" y="4191120"/>
              <a:ext cx="0" cy="19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23880" y="4586400"/>
              <a:ext cx="609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23880" y="4983120"/>
              <a:ext cx="609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23880" y="5380200"/>
              <a:ext cx="609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3880" y="5776920"/>
              <a:ext cx="609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23880" y="4191120"/>
              <a:ext cx="60962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23880" y="4191120"/>
              <a:ext cx="0" cy="1981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620120" y="4191120"/>
              <a:ext cx="0" cy="1981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23880" y="6172200"/>
              <a:ext cx="60962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7" name=""/>
                <p:cNvSpPr txBox="1"/>
                <p:nvPr/>
              </p:nvSpPr>
              <p:spPr>
                <a:xfrm>
                  <a:off x="1574640" y="4597560"/>
                  <a:ext cx="29232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∀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S-251 Slide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E224-4699-4EE5-BD94-A55BB66594FB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2072BA-22AE-47CE-9F2B-7D0DFF0EE12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30T21:30:37Z</dcterms:created>
  <dc:creator>CCSE</dc:creator>
  <dc:description/>
  <dc:language>en-US</dc:language>
  <cp:lastModifiedBy> </cp:lastModifiedBy>
  <dcterms:modified xsi:type="dcterms:W3CDTF">2003-11-30T22:09:13Z</dcterms:modified>
  <cp:revision>157</cp:revision>
  <dc:subject/>
  <dc:title>PowerPoint Presentation</dc:title>
</cp:coreProperties>
</file>