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6B96-B007-4076-8A36-057517EED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070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04F4-C991-46ED-A9AA-F17EFD781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4720" y="1523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070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4720" y="4070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45F2-E64D-435A-8A5F-15417486C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6400" y="1523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7720" y="1523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070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6400" y="4070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7720" y="4070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3DDF-4D3A-4E33-AE1B-F3FFA91A35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0A89-B14C-4CE8-81C5-5A7B082A9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5FE8-02AE-4B8A-99EE-A57C5708D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4720" y="152352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6448-A961-4B7B-9ADB-BC4693D68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D0E2-FDD3-494E-9F9F-F42C7DD2E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C11B-EFB7-4D6C-828F-116C8489F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4720" y="152352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070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D0B7-A191-4262-BE3A-078EB28A4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720" y="1523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4720" y="4070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9A3E-9568-4F10-B75A-867A0D30A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523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070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0D81-3D17-4A79-8ADA-F1E4AEFCD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43080" indent="-34308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B902-0894-4A2B-BFC8-A3F956C235F6}" type="slidenum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476760"/>
            <a:ext cx="3200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opyright  M.R.K. Krishna Rao 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h 8 - Tre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re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connected undirected graph with no simple circui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a tree cannot have a simple circuit, a tree cannot contain multiple edges or loop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any tree must be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imple grap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puter-Based Application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1378080" indent="-577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uild data structur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1378080" indent="-577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form encodi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1378080" indent="-577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udy formal computer languag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1378080" indent="-577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arching and sorti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35B9-B9B1-4160-9B6F-CDDBCCE459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ile syste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523880" y="2590920"/>
            <a:ext cx="6019920" cy="3339720"/>
            <a:chOff x="1523880" y="2590920"/>
            <a:chExt cx="6019920" cy="3339720"/>
          </a:xfrm>
        </p:grpSpPr>
        <p:sp>
          <p:nvSpPr>
            <p:cNvPr id="127" name=""/>
            <p:cNvSpPr/>
            <p:nvPr/>
          </p:nvSpPr>
          <p:spPr>
            <a:xfrm>
              <a:off x="4267080" y="25909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/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742840" y="3200400"/>
              <a:ext cx="1066680" cy="60912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2320" y="38862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us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29200" y="3200400"/>
              <a:ext cx="1219320" cy="60912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388620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te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752480" y="4572000"/>
              <a:ext cx="609840" cy="68544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3880" y="5410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8120" y="54100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spo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9520" y="4572000"/>
              <a:ext cx="457200" cy="68544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7080" y="54100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19720" y="3200400"/>
              <a:ext cx="0" cy="53280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38480" y="38862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4572000"/>
              <a:ext cx="0" cy="53280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EF6B-D748-40F0-A4A7-4607F5EA19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I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ithmetic expression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920" y="2286000"/>
            <a:ext cx="8458200" cy="4191120"/>
            <a:chOff x="304920" y="2286000"/>
            <a:chExt cx="8458200" cy="4191120"/>
          </a:xfrm>
        </p:grpSpPr>
        <p:sp>
          <p:nvSpPr>
            <p:cNvPr id="143" name=""/>
            <p:cNvSpPr/>
            <p:nvPr/>
          </p:nvSpPr>
          <p:spPr>
            <a:xfrm>
              <a:off x="3761280" y="2286000"/>
              <a:ext cx="169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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290320" y="2895840"/>
              <a:ext cx="1029240" cy="60948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22760" y="3581640"/>
              <a:ext cx="176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omic Sans MS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97120" y="2895840"/>
              <a:ext cx="1176840" cy="60948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26720" y="3581640"/>
              <a:ext cx="44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omic Sans MS"/>
                </a:rPr>
                <a:t>-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33800" y="4267440"/>
              <a:ext cx="588600" cy="68580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13480" y="5105520"/>
              <a:ext cx="1323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58240" y="5105520"/>
              <a:ext cx="588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omic Sans MS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4120" y="4267440"/>
              <a:ext cx="441000" cy="68580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938480" y="4267440"/>
              <a:ext cx="588240" cy="68580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17800" y="5105520"/>
              <a:ext cx="1323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62200" y="5105520"/>
              <a:ext cx="58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7720" y="4267440"/>
              <a:ext cx="441000" cy="68580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5943600"/>
              <a:ext cx="8458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omic Sans MS"/>
                </a:rPr>
                <a:t>This tree represents the expression (y + z)</a:t>
              </a:r>
              <a:r>
                <a:rPr b="0" lang="en-US" sz="2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</a:t>
              </a:r>
              <a:r>
                <a:rPr b="0" lang="en-US" sz="2600" spc="-1" strike="noStrike">
                  <a:solidFill>
                    <a:srgbClr val="ffff00"/>
                  </a:solidFill>
                  <a:latin typeface="Comic Sans MS"/>
                </a:rPr>
                <a:t>(x - y)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8893-EC4F-47E0-A45A-2DBB5A0372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A rooted tree is called an </a:t>
            </a:r>
            <a:r>
              <a:rPr b="1" lang="en-US" sz="2600" spc="-1" strike="noStrike">
                <a:solidFill>
                  <a:srgbClr val="00ffff"/>
                </a:solidFill>
                <a:latin typeface="Comic Sans MS"/>
              </a:rPr>
              <a:t>m-ary tree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if every internal vertex has no more than m children. 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he tree is called a </a:t>
            </a:r>
            <a:r>
              <a:rPr b="1" lang="en-US" sz="2600" spc="-1" strike="noStrike">
                <a:solidFill>
                  <a:srgbClr val="00ffff"/>
                </a:solidFill>
                <a:latin typeface="Comic Sans MS"/>
              </a:rPr>
              <a:t>full m-ary tree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if every internal vertex has exactly m children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Comic Sans MS"/>
              </a:rPr>
              <a:t>Theorem: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There are at most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</a:t>
            </a:r>
            <a:r>
              <a:rPr b="0" i="1" lang="en-US" sz="26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h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leaves an m-ary tree of height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n m-ary tree with m = 2 is called a </a:t>
            </a:r>
            <a:r>
              <a:rPr b="1" lang="en-US" sz="2600" spc="-1" strike="noStrike">
                <a:solidFill>
                  <a:srgbClr val="00ffff"/>
                </a:solidFill>
                <a:latin typeface="Comic Sans MS"/>
              </a:rPr>
              <a:t>binary tree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 rooted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-ary tree of height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is called a </a:t>
            </a:r>
            <a:r>
              <a:rPr b="1" lang="en-US" sz="2600" spc="-1" strike="noStrike">
                <a:solidFill>
                  <a:srgbClr val="00ffff"/>
                </a:solidFill>
                <a:latin typeface="Comic Sans MS"/>
              </a:rPr>
              <a:t>balanced tree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all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leaves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are at level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h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– 1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24200" y="4724280"/>
            <a:ext cx="440028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3173-CFD4-49B9-B50C-0E64087B39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e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Comic Sans MS"/>
              </a:rPr>
              <a:t>Theorem: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A full m-ary tree with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 internal vertices (have children) has n=mi+1 vertices</a:t>
            </a:r>
            <a:r>
              <a:rPr b="1" i="1" lang="en-US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 vertices has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=(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-1)/m internal vertices and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=[(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-1)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+1]/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leaves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 internal vertices has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 = mi+1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vertices and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= (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-1)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+ 1 leaves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 leaves has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= (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ml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-1)/(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-1) vertices and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=(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-1)/(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-1) internal vertices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657600" y="4876920"/>
            <a:ext cx="2819520" cy="1450080"/>
            <a:chOff x="3657600" y="4876920"/>
            <a:chExt cx="2819520" cy="1450080"/>
          </a:xfrm>
        </p:grpSpPr>
        <p:sp>
          <p:nvSpPr>
            <p:cNvPr id="163" name=""/>
            <p:cNvSpPr/>
            <p:nvPr/>
          </p:nvSpPr>
          <p:spPr>
            <a:xfrm flipH="1">
              <a:off x="4419720" y="5257800"/>
              <a:ext cx="45720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6920" y="5257800"/>
              <a:ext cx="609480" cy="304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257440" y="5562720"/>
              <a:ext cx="22860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86400" y="5562720"/>
              <a:ext cx="457200" cy="380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038120" y="5486400"/>
              <a:ext cx="381240" cy="457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19720" y="5486400"/>
              <a:ext cx="304560" cy="380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48320" y="4876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5181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5867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5867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05520" y="5867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150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A299-05B3-4D6E-98CA-4AEB31D1BC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plication of Tre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should items in a list be stored so that an item can be easily located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inary search tre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series of decisions should be made to find an object with a certain property in a collection of objects of a certain typ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cision tre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should a set of characters be efficiently coded by bit string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efix cod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1F52-FF3C-4673-9EE7-E09D929625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ary Search 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f we want to perform a large number of searches in a particular list of items, it can be worthwhile to arrange these items in a </a:t>
            </a:r>
            <a:r>
              <a:rPr b="1" lang="en-US" sz="2600" spc="-1" strike="noStrike">
                <a:solidFill>
                  <a:srgbClr val="00ffff"/>
                </a:solidFill>
                <a:latin typeface="Comic Sans MS"/>
              </a:rPr>
              <a:t>binary search tree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to facilitate the subsequent searches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 binary search tree is a binary tree in which each child of a vertex is designated as a right or left child, and each vertex is labeled with a key, which is one of the items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When we construct the tree, vertices are assigned keys so that the key of a vertex is both larger than the keys of all vertices in its left subtree and smaller than the keys of all vertices in its right subtree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7C12-7B43-4879-9255-9EF7949F0A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ary Search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e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Recursive procedure used to form the binary search tree for a list of items: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Start with tree with one vertex (the root)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First item is assigned as the key of the root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o add a new item, compare it with the keys of vertices already in the tree, start at the root and 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ve to the left if the item is less than the key of the respective vertex and this vertex has a left child (if no left child, add this item as left child), or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ve to the right if the item is greater than the key of the respective vertex and this vertex has a right child (if no right child, add this item as right child),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BEC1-A55C-4980-8B97-C024439CF0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ary Search 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binary search tree for the strings 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ath, computer, power, north, zoo, dentist, book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2666880"/>
            <a:ext cx="15228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286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C13F-C053-4114-9908-7B925EA513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ary Search 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binary search tree for the strings 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ath, computer, power, north, zoo, dentist, book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2666880"/>
            <a:ext cx="15228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2286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3505320"/>
            <a:ext cx="152640" cy="15228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0" idx="7"/>
            <a:endCxn id="188" idx="3"/>
          </p:cNvCxnSpPr>
          <p:nvPr/>
        </p:nvCxnSpPr>
        <p:spPr>
          <a:xfrm flipV="1">
            <a:off x="3482640" y="2809800"/>
            <a:ext cx="654840" cy="70524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842E-33DE-46C8-B0B1-2683BB76C7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ary Search 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binary search tree for the strings 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ath, computer, power, north, zoo, dentist, book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666880"/>
            <a:ext cx="15228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2286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505320"/>
            <a:ext cx="152640" cy="15228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7" idx="7"/>
            <a:endCxn id="195" idx="3"/>
          </p:cNvCxnSpPr>
          <p:nvPr/>
        </p:nvCxnSpPr>
        <p:spPr>
          <a:xfrm flipV="1">
            <a:off x="3482640" y="2809800"/>
            <a:ext cx="654840" cy="70524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00" name=""/>
          <p:cNvSpPr/>
          <p:nvPr/>
        </p:nvSpPr>
        <p:spPr>
          <a:xfrm>
            <a:off x="5029200" y="3505320"/>
            <a:ext cx="152280" cy="15228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5" idx="5"/>
            <a:endCxn id="200" idx="1"/>
          </p:cNvCxnSpPr>
          <p:nvPr/>
        </p:nvCxnSpPr>
        <p:spPr>
          <a:xfrm>
            <a:off x="4245120" y="2809800"/>
            <a:ext cx="807120" cy="70524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5257800" y="3048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0F4D-216E-4985-ACC0-CDCD92ED73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the following graphs tree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143000" y="1523880"/>
            <a:ext cx="2057400" cy="1600200"/>
            <a:chOff x="1143000" y="1523880"/>
            <a:chExt cx="2057400" cy="1600200"/>
          </a:xfrm>
        </p:grpSpPr>
        <p:sp>
          <p:nvSpPr>
            <p:cNvPr id="45" name=""/>
            <p:cNvSpPr/>
            <p:nvPr/>
          </p:nvSpPr>
          <p:spPr>
            <a:xfrm>
              <a:off x="1143000" y="1981080"/>
              <a:ext cx="152280" cy="15264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81080" y="1523880"/>
              <a:ext cx="152640" cy="15264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2895480"/>
              <a:ext cx="152280" cy="15264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8120" y="213372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38280" y="1981080"/>
              <a:ext cx="152640" cy="15264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297180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" name=""/>
            <p:cNvCxnSpPr>
              <a:stCxn id="45" idx="7"/>
              <a:endCxn id="46" idx="3"/>
            </p:cNvCxnSpPr>
            <p:nvPr/>
          </p:nvCxnSpPr>
          <p:spPr>
            <a:xfrm flipV="1">
              <a:off x="1273320" y="1653840"/>
              <a:ext cx="730800" cy="34992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52" name=""/>
            <p:cNvCxnSpPr>
              <a:stCxn id="46" idx="6"/>
              <a:endCxn id="49" idx="2"/>
            </p:cNvCxnSpPr>
            <p:nvPr/>
          </p:nvCxnSpPr>
          <p:spPr>
            <a:xfrm>
              <a:off x="2133720" y="1600200"/>
              <a:ext cx="305280" cy="45792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53" name=""/>
            <p:cNvCxnSpPr>
              <a:stCxn id="49" idx="5"/>
              <a:endCxn id="48" idx="1"/>
            </p:cNvCxnSpPr>
            <p:nvPr/>
          </p:nvCxnSpPr>
          <p:spPr>
            <a:xfrm>
              <a:off x="2568240" y="2111040"/>
              <a:ext cx="501840" cy="4500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54" name=""/>
            <p:cNvCxnSpPr>
              <a:stCxn id="48" idx="3"/>
              <a:endCxn id="50" idx="7"/>
            </p:cNvCxnSpPr>
            <p:nvPr/>
          </p:nvCxnSpPr>
          <p:spPr>
            <a:xfrm flipH="1">
              <a:off x="2644200" y="2263320"/>
              <a:ext cx="425880" cy="73116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55" name=""/>
            <p:cNvCxnSpPr>
              <a:stCxn id="50" idx="2"/>
              <a:endCxn id="47" idx="6"/>
            </p:cNvCxnSpPr>
            <p:nvPr/>
          </p:nvCxnSpPr>
          <p:spPr>
            <a:xfrm flipH="1" flipV="1">
              <a:off x="1599840" y="2971800"/>
              <a:ext cx="915120" cy="7668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56" name=""/>
            <p:cNvCxnSpPr>
              <a:stCxn id="47" idx="1"/>
              <a:endCxn id="45" idx="5"/>
            </p:cNvCxnSpPr>
            <p:nvPr/>
          </p:nvCxnSpPr>
          <p:spPr>
            <a:xfrm flipH="1" flipV="1">
              <a:off x="1272960" y="2111040"/>
              <a:ext cx="197280" cy="80712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57" name=""/>
            <p:cNvCxnSpPr>
              <a:stCxn id="47" idx="0"/>
              <a:endCxn id="46" idx="4"/>
            </p:cNvCxnSpPr>
            <p:nvPr/>
          </p:nvCxnSpPr>
          <p:spPr>
            <a:xfrm flipV="1">
              <a:off x="1523880" y="1676160"/>
              <a:ext cx="534240" cy="121968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58" name=""/>
            <p:cNvCxnSpPr>
              <a:stCxn id="50" idx="0"/>
              <a:endCxn id="49" idx="4"/>
            </p:cNvCxnSpPr>
            <p:nvPr/>
          </p:nvCxnSpPr>
          <p:spPr>
            <a:xfrm flipH="1" flipV="1">
              <a:off x="2514600" y="2133360"/>
              <a:ext cx="76680" cy="83880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59" name=""/>
            <p:cNvCxnSpPr>
              <a:stCxn id="47" idx="7"/>
              <a:endCxn id="49" idx="3"/>
            </p:cNvCxnSpPr>
            <p:nvPr/>
          </p:nvCxnSpPr>
          <p:spPr>
            <a:xfrm flipV="1">
              <a:off x="1577880" y="2111040"/>
              <a:ext cx="883440" cy="80712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</p:grpSp>
      <p:sp>
        <p:nvSpPr>
          <p:cNvPr id="60" name=""/>
          <p:cNvSpPr/>
          <p:nvPr/>
        </p:nvSpPr>
        <p:spPr>
          <a:xfrm>
            <a:off x="1752480" y="3352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34120" y="1523880"/>
            <a:ext cx="2057400" cy="1600200"/>
            <a:chOff x="5334120" y="1523880"/>
            <a:chExt cx="2057400" cy="1600200"/>
          </a:xfrm>
        </p:grpSpPr>
        <p:sp>
          <p:nvSpPr>
            <p:cNvPr id="62" name=""/>
            <p:cNvSpPr/>
            <p:nvPr/>
          </p:nvSpPr>
          <p:spPr>
            <a:xfrm>
              <a:off x="5334120" y="1981080"/>
              <a:ext cx="152280" cy="15264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72200" y="1523880"/>
              <a:ext cx="152280" cy="15264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38680" y="2895480"/>
              <a:ext cx="152640" cy="15264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38880" y="213372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1981080"/>
              <a:ext cx="152280" cy="15264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297180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3" idx="6"/>
              <a:endCxn id="66" idx="2"/>
            </p:cNvCxnSpPr>
            <p:nvPr/>
          </p:nvCxnSpPr>
          <p:spPr>
            <a:xfrm>
              <a:off x="6324120" y="1600200"/>
              <a:ext cx="305640" cy="45792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69" name=""/>
            <p:cNvCxnSpPr>
              <a:stCxn id="65" idx="3"/>
              <a:endCxn id="67" idx="7"/>
            </p:cNvCxnSpPr>
            <p:nvPr/>
          </p:nvCxnSpPr>
          <p:spPr>
            <a:xfrm flipH="1">
              <a:off x="6835320" y="2263320"/>
              <a:ext cx="426240" cy="73116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70" name=""/>
            <p:cNvCxnSpPr>
              <a:stCxn id="64" idx="1"/>
              <a:endCxn id="62" idx="5"/>
            </p:cNvCxnSpPr>
            <p:nvPr/>
          </p:nvCxnSpPr>
          <p:spPr>
            <a:xfrm flipH="1" flipV="1">
              <a:off x="5463360" y="2111040"/>
              <a:ext cx="197640" cy="80712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71" name=""/>
            <p:cNvCxnSpPr>
              <a:stCxn id="67" idx="0"/>
              <a:endCxn id="66" idx="4"/>
            </p:cNvCxnSpPr>
            <p:nvPr/>
          </p:nvCxnSpPr>
          <p:spPr>
            <a:xfrm flipH="1" flipV="1">
              <a:off x="6705000" y="2133360"/>
              <a:ext cx="76680" cy="83880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72" name=""/>
            <p:cNvCxnSpPr>
              <a:stCxn id="64" idx="7"/>
              <a:endCxn id="66" idx="3"/>
            </p:cNvCxnSpPr>
            <p:nvPr/>
          </p:nvCxnSpPr>
          <p:spPr>
            <a:xfrm flipV="1">
              <a:off x="5769000" y="2111040"/>
              <a:ext cx="883440" cy="80712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</p:grpSp>
      <p:sp>
        <p:nvSpPr>
          <p:cNvPr id="73" name=""/>
          <p:cNvSpPr/>
          <p:nvPr/>
        </p:nvSpPr>
        <p:spPr>
          <a:xfrm>
            <a:off x="167652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219320" y="4114800"/>
            <a:ext cx="2057400" cy="1600200"/>
            <a:chOff x="1219320" y="4114800"/>
            <a:chExt cx="2057400" cy="1600200"/>
          </a:xfrm>
        </p:grpSpPr>
        <p:sp>
          <p:nvSpPr>
            <p:cNvPr id="75" name=""/>
            <p:cNvSpPr/>
            <p:nvPr/>
          </p:nvSpPr>
          <p:spPr>
            <a:xfrm>
              <a:off x="1219320" y="457200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57400" y="411480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23880" y="548640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24080" y="4724280"/>
              <a:ext cx="152640" cy="15264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457200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556272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>
              <a:stCxn id="76" idx="6"/>
              <a:endCxn id="79" idx="2"/>
            </p:cNvCxnSpPr>
            <p:nvPr/>
          </p:nvCxnSpPr>
          <p:spPr>
            <a:xfrm>
              <a:off x="2209320" y="4191120"/>
              <a:ext cx="305640" cy="45792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82" name=""/>
            <p:cNvCxnSpPr>
              <a:stCxn id="78" idx="3"/>
              <a:endCxn id="80" idx="7"/>
            </p:cNvCxnSpPr>
            <p:nvPr/>
          </p:nvCxnSpPr>
          <p:spPr>
            <a:xfrm flipH="1">
              <a:off x="2720520" y="4854600"/>
              <a:ext cx="426240" cy="73080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83" name=""/>
            <p:cNvCxnSpPr>
              <a:stCxn id="77" idx="1"/>
              <a:endCxn id="75" idx="5"/>
            </p:cNvCxnSpPr>
            <p:nvPr/>
          </p:nvCxnSpPr>
          <p:spPr>
            <a:xfrm flipH="1" flipV="1">
              <a:off x="1348560" y="4701960"/>
              <a:ext cx="197640" cy="80712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84" name=""/>
            <p:cNvCxnSpPr>
              <a:stCxn id="80" idx="0"/>
              <a:endCxn id="79" idx="4"/>
            </p:cNvCxnSpPr>
            <p:nvPr/>
          </p:nvCxnSpPr>
          <p:spPr>
            <a:xfrm flipH="1" flipV="1">
              <a:off x="2590200" y="4723560"/>
              <a:ext cx="76680" cy="83916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85" name=""/>
            <p:cNvCxnSpPr>
              <a:stCxn id="75" idx="7"/>
              <a:endCxn id="76" idx="3"/>
            </p:cNvCxnSpPr>
            <p:nvPr/>
          </p:nvCxnSpPr>
          <p:spPr>
            <a:xfrm flipV="1">
              <a:off x="1348920" y="4244760"/>
              <a:ext cx="731160" cy="34992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</p:grpSp>
      <p:grpSp>
        <p:nvGrpSpPr>
          <p:cNvPr id="86" name=""/>
          <p:cNvGrpSpPr/>
          <p:nvPr/>
        </p:nvGrpSpPr>
        <p:grpSpPr>
          <a:xfrm>
            <a:off x="5562720" y="4038480"/>
            <a:ext cx="2057400" cy="1600200"/>
            <a:chOff x="5562720" y="4038480"/>
            <a:chExt cx="2057400" cy="1600200"/>
          </a:xfrm>
        </p:grpSpPr>
        <p:sp>
          <p:nvSpPr>
            <p:cNvPr id="87" name=""/>
            <p:cNvSpPr/>
            <p:nvPr/>
          </p:nvSpPr>
          <p:spPr>
            <a:xfrm>
              <a:off x="5562720" y="4495680"/>
              <a:ext cx="152280" cy="15264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00800" y="4038480"/>
              <a:ext cx="152280" cy="15264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67280" y="5410080"/>
              <a:ext cx="152640" cy="15264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67480" y="464832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0" y="4495680"/>
              <a:ext cx="152280" cy="15264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34320" y="548640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0" idx="3"/>
              <a:endCxn id="92" idx="7"/>
            </p:cNvCxnSpPr>
            <p:nvPr/>
          </p:nvCxnSpPr>
          <p:spPr>
            <a:xfrm flipH="1">
              <a:off x="7063920" y="4777920"/>
              <a:ext cx="426240" cy="73116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94" name=""/>
            <p:cNvCxnSpPr>
              <a:stCxn id="89" idx="1"/>
              <a:endCxn id="87" idx="5"/>
            </p:cNvCxnSpPr>
            <p:nvPr/>
          </p:nvCxnSpPr>
          <p:spPr>
            <a:xfrm flipH="1" flipV="1">
              <a:off x="5691960" y="4625640"/>
              <a:ext cx="197640" cy="80712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95" name=""/>
            <p:cNvCxnSpPr>
              <a:stCxn id="92" idx="0"/>
              <a:endCxn id="91" idx="4"/>
            </p:cNvCxnSpPr>
            <p:nvPr/>
          </p:nvCxnSpPr>
          <p:spPr>
            <a:xfrm flipH="1" flipV="1">
              <a:off x="6933600" y="4647960"/>
              <a:ext cx="76680" cy="83880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  <p:cxnSp>
          <p:nvCxnSpPr>
            <p:cNvPr id="96" name=""/>
            <p:cNvCxnSpPr>
              <a:stCxn id="87" idx="7"/>
              <a:endCxn id="88" idx="3"/>
            </p:cNvCxnSpPr>
            <p:nvPr/>
          </p:nvCxnSpPr>
          <p:spPr>
            <a:xfrm flipV="1">
              <a:off x="5692320" y="4168440"/>
              <a:ext cx="731160" cy="349920"/>
            </a:xfrm>
            <a:prstGeom prst="straightConnector1">
              <a:avLst/>
            </a:prstGeom>
            <a:ln w="25560">
              <a:solidFill>
                <a:srgbClr val="66ff33"/>
              </a:solidFill>
              <a:miter/>
            </a:ln>
          </p:spPr>
        </p:cxnSp>
      </p:grpSp>
      <p:sp>
        <p:nvSpPr>
          <p:cNvPr id="97" name=""/>
          <p:cNvSpPr/>
          <p:nvPr/>
        </p:nvSpPr>
        <p:spPr>
          <a:xfrm>
            <a:off x="6019920" y="32767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5715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1E11-58BF-4C1D-80F7-DE65070BBC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ary Search 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binary search tree for the strings 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ath, computer, power, north, zoo, dentist, book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2666880"/>
            <a:ext cx="15228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2286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3505320"/>
            <a:ext cx="152640" cy="15228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7" idx="7"/>
            <a:endCxn id="205" idx="3"/>
          </p:cNvCxnSpPr>
          <p:nvPr/>
        </p:nvCxnSpPr>
        <p:spPr>
          <a:xfrm flipV="1">
            <a:off x="3482640" y="2809800"/>
            <a:ext cx="654840" cy="70524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5029200" y="3505320"/>
            <a:ext cx="152280" cy="15228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5" idx="5"/>
            <a:endCxn id="210" idx="1"/>
          </p:cNvCxnSpPr>
          <p:nvPr/>
        </p:nvCxnSpPr>
        <p:spPr>
          <a:xfrm>
            <a:off x="4245120" y="2809800"/>
            <a:ext cx="807120" cy="70524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5257800" y="3048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4495680"/>
            <a:ext cx="15264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0" idx="3"/>
            <a:endCxn id="213" idx="7"/>
          </p:cNvCxnSpPr>
          <p:nvPr/>
        </p:nvCxnSpPr>
        <p:spPr>
          <a:xfrm flipH="1">
            <a:off x="4625640" y="3647880"/>
            <a:ext cx="426240" cy="85788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4724280" y="4267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27A5-B286-4C5B-9E63-70941B46AD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ary Search 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binary search tree for the strings 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ath, computer, power, north, zoo, dentist, book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2666880"/>
            <a:ext cx="15228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2286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3505320"/>
            <a:ext cx="152640" cy="15228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0" idx="7"/>
            <a:endCxn id="218" idx="3"/>
          </p:cNvCxnSpPr>
          <p:nvPr/>
        </p:nvCxnSpPr>
        <p:spPr>
          <a:xfrm flipV="1">
            <a:off x="3482640" y="2809800"/>
            <a:ext cx="654840" cy="70524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5029200" y="3505320"/>
            <a:ext cx="152280" cy="15228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8" idx="5"/>
            <a:endCxn id="223" idx="1"/>
          </p:cNvCxnSpPr>
          <p:nvPr/>
        </p:nvCxnSpPr>
        <p:spPr>
          <a:xfrm>
            <a:off x="4245120" y="2809800"/>
            <a:ext cx="807120" cy="70524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57800" y="3048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4495680"/>
            <a:ext cx="15264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3" idx="3"/>
            <a:endCxn id="226" idx="7"/>
          </p:cNvCxnSpPr>
          <p:nvPr/>
        </p:nvCxnSpPr>
        <p:spPr>
          <a:xfrm flipH="1">
            <a:off x="4625640" y="3647880"/>
            <a:ext cx="426240" cy="85788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724280" y="4267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4495680"/>
            <a:ext cx="15264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3" idx="5"/>
            <a:endCxn id="229" idx="1"/>
          </p:cNvCxnSpPr>
          <p:nvPr/>
        </p:nvCxnSpPr>
        <p:spPr>
          <a:xfrm>
            <a:off x="5159160" y="3647880"/>
            <a:ext cx="1416600" cy="85788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6858000" y="4267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3380-33DD-466A-82B9-96A07A71D8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ary Search 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binary search tree for the strings 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ath, computer, power, north, zoo, dentist, book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666880"/>
            <a:ext cx="15228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2286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3505320"/>
            <a:ext cx="152640" cy="15228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7"/>
            <a:endCxn id="234" idx="3"/>
          </p:cNvCxnSpPr>
          <p:nvPr/>
        </p:nvCxnSpPr>
        <p:spPr>
          <a:xfrm flipV="1">
            <a:off x="3482640" y="2809800"/>
            <a:ext cx="654840" cy="70524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029200" y="3505320"/>
            <a:ext cx="152280" cy="15228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4" idx="5"/>
            <a:endCxn id="239" idx="1"/>
          </p:cNvCxnSpPr>
          <p:nvPr/>
        </p:nvCxnSpPr>
        <p:spPr>
          <a:xfrm>
            <a:off x="4245120" y="2809800"/>
            <a:ext cx="807120" cy="70524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5257800" y="3048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4495680"/>
            <a:ext cx="15264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39" idx="3"/>
            <a:endCxn id="242" idx="7"/>
          </p:cNvCxnSpPr>
          <p:nvPr/>
        </p:nvCxnSpPr>
        <p:spPr>
          <a:xfrm flipH="1">
            <a:off x="4625640" y="3647880"/>
            <a:ext cx="426240" cy="85788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44" name=""/>
          <p:cNvSpPr/>
          <p:nvPr/>
        </p:nvSpPr>
        <p:spPr>
          <a:xfrm>
            <a:off x="4724280" y="4267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4495680"/>
            <a:ext cx="15264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9" idx="5"/>
            <a:endCxn id="245" idx="1"/>
          </p:cNvCxnSpPr>
          <p:nvPr/>
        </p:nvCxnSpPr>
        <p:spPr>
          <a:xfrm>
            <a:off x="5159160" y="3647880"/>
            <a:ext cx="1416600" cy="85788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6858000" y="4267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6" idx="5"/>
            <a:endCxn id="248" idx="0"/>
          </p:cNvCxnSpPr>
          <p:nvPr/>
        </p:nvCxnSpPr>
        <p:spPr>
          <a:xfrm>
            <a:off x="3483000" y="3647880"/>
            <a:ext cx="327600" cy="83556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2209680" y="4267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nt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B6DA-D248-4DC7-BD83-459BE6E233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ary Search 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binary search tree for the strings 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ath, computer, power, north, zoo, dentist, book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2666880"/>
            <a:ext cx="15228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2286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3505320"/>
            <a:ext cx="152640" cy="15228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5" idx="7"/>
            <a:endCxn id="253" idx="3"/>
          </p:cNvCxnSpPr>
          <p:nvPr/>
        </p:nvCxnSpPr>
        <p:spPr>
          <a:xfrm flipV="1">
            <a:off x="3482640" y="2809800"/>
            <a:ext cx="654840" cy="70524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5029200" y="3505320"/>
            <a:ext cx="152280" cy="15228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3" idx="5"/>
            <a:endCxn id="258" idx="1"/>
          </p:cNvCxnSpPr>
          <p:nvPr/>
        </p:nvCxnSpPr>
        <p:spPr>
          <a:xfrm>
            <a:off x="4245120" y="2809800"/>
            <a:ext cx="807120" cy="70524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5257800" y="3048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4495680"/>
            <a:ext cx="15264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8" idx="3"/>
            <a:endCxn id="261" idx="7"/>
          </p:cNvCxnSpPr>
          <p:nvPr/>
        </p:nvCxnSpPr>
        <p:spPr>
          <a:xfrm flipH="1">
            <a:off x="4625640" y="3647880"/>
            <a:ext cx="426240" cy="85788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4724280" y="4267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3080" y="4495680"/>
            <a:ext cx="15264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8" idx="5"/>
            <a:endCxn id="264" idx="1"/>
          </p:cNvCxnSpPr>
          <p:nvPr/>
        </p:nvCxnSpPr>
        <p:spPr>
          <a:xfrm>
            <a:off x="5159160" y="3647880"/>
            <a:ext cx="1416600" cy="85788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6858000" y="4267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5"/>
            <a:endCxn id="267" idx="0"/>
          </p:cNvCxnSpPr>
          <p:nvPr/>
        </p:nvCxnSpPr>
        <p:spPr>
          <a:xfrm>
            <a:off x="3483000" y="3647880"/>
            <a:ext cx="327600" cy="83556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2209680" y="4267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nt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4495680"/>
            <a:ext cx="152280" cy="152640"/>
          </a:xfrm>
          <a:prstGeom prst="flowChartConnector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7"/>
            <a:endCxn id="255" idx="3"/>
          </p:cNvCxnSpPr>
          <p:nvPr/>
        </p:nvCxnSpPr>
        <p:spPr>
          <a:xfrm flipV="1">
            <a:off x="1577880" y="3647520"/>
            <a:ext cx="1797840" cy="857880"/>
          </a:xfrm>
          <a:prstGeom prst="straightConnector1">
            <a:avLst/>
          </a:prstGeom>
          <a:ln w="25560">
            <a:solidFill>
              <a:srgbClr val="66ff33"/>
            </a:solidFill>
            <a:miter/>
          </a:ln>
        </p:spPr>
      </p:cxnSp>
      <p:sp>
        <p:nvSpPr>
          <p:cNvPr id="272" name=""/>
          <p:cNvSpPr/>
          <p:nvPr/>
        </p:nvSpPr>
        <p:spPr>
          <a:xfrm>
            <a:off x="380880" y="42670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D357-2969-464E-BB5A-709A04F8B8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ary Search 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o perform a search in such a tree for an item x, we can start at the root and compare its key to x. If x is less than the key, we proceed to the left child of the current vertex, and if x is greater than the key, we proceed to the right one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his procedure is repeated until we either found the item we were looking for, or we cannot proceed any further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n a balanced tree representing a list of n items, search can be performed with a maximum of 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log(n + 1)</a:t>
            </a: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steps </a:t>
            </a:r>
            <a:r>
              <a:rPr b="0" lang="en-US" sz="2600" spc="-1" strike="noStrike">
                <a:solidFill>
                  <a:srgbClr val="66ff33"/>
                </a:solidFill>
                <a:latin typeface="Comic Sans MS"/>
              </a:rPr>
              <a:t>(compare with binary search)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0C8A-109C-40C6-8874-765459D13D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ecision Tre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Rooted trees can be used to model problems in which a series of decisions leads to a solution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Binary search tree can be used to locate items based on a series of comparisons, where each comparison tells us whether we have located the item, or whether we should go right or left in a subtree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 rooted tree in which each internet vertex corresponds to a decision, with a subtree at these vertices for each possible outcome of the decision is called a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DECISION TREE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Possible solutions correspond to the paths to the leaves of this rooted tree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D327-B273-43C5-9BAA-8D4FCC49BC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plication of Tre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7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ision Trees - exampl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7 coins, all with same weight, and a counterfeit coin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ow many weighings are necessary using a balance scale to determine which of the eight is the counterfeit one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ree possibilities for each weighing: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274040" indent="-212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oins have equal weigh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2" marL="1274040" indent="-212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irst pan is heavier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2" marL="1274040" indent="-212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econd pan is heavier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us, have a 3-ary tre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re are at least 8 leaves because there are 8 possible outcomes (each of the 8 coins could be the counterfeit lighter coin), and each possible outcome must be represented by at least one leaf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A73B-A830-4E6B-94E0-66A9E8284A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plication of Tre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efix Cod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ider using bit strings to encode the letters of the english alphabet (no distinction between uppercase and lowercase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ach letter can be represented with a bit string of length 5, since there are 26 letters and 32 bit strings of length 5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total number of bits used to encode the data is 5 times the number of characters in the text when each character is encoded with 5 bi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it possible to find a coding scheme of these letters so that, when data are coded, fewer bits are used? (this helps save memory and reduce transmittal time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63E3-33CB-492F-A5FB-7B6631760C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plication of Tre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efix Cod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using bit strings of different lengths to encode letter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etters occurring more frequently should be encoded using short bit strings; less frequent = longer strings –-- used in Huffman coding,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ed some method to denote where a string starts and end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ne way to ensure that no bit string corresponds to more than one sequence of letters, the bit string for a letter must never occur as the first part of the bit string for another lett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des with this property are calle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REFIX COD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68A5-719C-4E68-8999-88EC8D93F7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plication of Tre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Prefix Codes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For example, you’ve coded e as 0, a as 10, and t as 11: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What does 10110 denote?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te  -- can’t interpret this string of numbers any other way!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Prefix code can be represented using a binary tree, where characters are the labels of the leaves in the tree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Edges of tree are labeled so that an edge leading to a left child is assigned a 0 and an edge leading to a right child is assigned a 1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EB8F-313F-47CF-86BD-3DC10C6367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e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orem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 undirected graph is a tree if and only if there is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unique simple pat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tween any of its vert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o prove necessary condi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ppose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a tree. Since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connected, there is a simple path between two vert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there are two paths between two vertices, then there is a simple circuit in the graph, contradicting that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a tre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there is a unique simple path between any two of its vert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AEF7-562F-41F7-A2E7-0DD24EA2D4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plication of Tre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efix Cod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how are e,a,t,n,s encoded below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, 10, 110, 1110, 111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904760" y="2666880"/>
            <a:ext cx="53316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666880"/>
            <a:ext cx="1524240" cy="2438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286000" y="3276720"/>
            <a:ext cx="533520" cy="53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90560" y="3809880"/>
            <a:ext cx="53316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124080" y="4495680"/>
            <a:ext cx="45720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2743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96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4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30DE-670C-4E8D-8B00-90BF6E0670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plication of Tre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efix Cod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what does 11111011100 denot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904760" y="2666880"/>
            <a:ext cx="53316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38280" y="2666880"/>
            <a:ext cx="1524240" cy="2438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286000" y="3276720"/>
            <a:ext cx="533520" cy="53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590560" y="3809880"/>
            <a:ext cx="53316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124080" y="4495680"/>
            <a:ext cx="45720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2743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18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33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A4D2-8DF8-4CF8-89AC-6B9AF27288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pplication of Tree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efix Cod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what does 11111011100 denot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ane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904760" y="2666880"/>
            <a:ext cx="53316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2666880"/>
            <a:ext cx="1524240" cy="2438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286000" y="3276720"/>
            <a:ext cx="533520" cy="53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590560" y="3809880"/>
            <a:ext cx="53316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124080" y="4495680"/>
            <a:ext cx="45720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718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743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2900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52480" y="259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096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14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7077-CA59-47E5-A815-9C67F4B8ED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e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o prove sufficient condition: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7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Suppose there is a unique simple path between any two vertices of an undirected graph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7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First, obviously,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T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s connected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7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Second,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T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cannot have any simple circuit, for otherwise there exist two paths between two vertices on a simple circuit, which is a contradiction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7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So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T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s connected and does not have any simple circuits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7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Hence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T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s a tree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5120" y="4875120"/>
            <a:ext cx="4800600" cy="16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5F7A-ED32-4FEB-A08D-20197684E6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 undirected graph that does not contain simple circuits and is not necessarily connected is called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ores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general, we use trees to represen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ierarchical structur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often designate a particular vertex of a tree as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oo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 Since there is a unique path from the root to each vertex of the graph, we direct each edge away from the roo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us, a tree together with its root produces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irected grap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alled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ooted tre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2F99-A07A-41A2-A5E2-54D60A3D05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ee Terminolog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v is a vertex in a rooted tree other than the root,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ar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v is the unique vertex u such that there is a directed edge from u to v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n u is the parent of v, v is calle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hil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u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Vertices with the same parent are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ibling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cestor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vertex other than the root are the vertices in the path from the root to this vertex, excluding the vertex itself and including the roo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F88F-4B9F-48C5-96BF-1FBD6D3FBA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ee Terminolog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scendan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vertex v are those vertices that have v as an ancest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vertex of a tree is called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it has no childr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Vertices that have children are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ternal vertic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a is a vertex in a tree, then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ubtre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ith a as its root is the subgraph of the tree consisting of a and its descendants and all edges incident to these descenda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C932-DA42-4398-AC67-6FC278D81E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ee Terminolog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00ffff"/>
                </a:solidFill>
                <a:latin typeface="Comic Sans MS"/>
              </a:rPr>
              <a:t>level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of vertex v in a rooted tree is the length of the unique path from the root to this vertex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he level of the root is defined to be zero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00ffff"/>
                </a:solidFill>
                <a:latin typeface="Comic Sans MS"/>
              </a:rPr>
              <a:t>height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of a rooted tree is the maximum of the levels of vertices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Comic Sans MS"/>
              </a:rPr>
              <a:t>Theorem: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Every tree is a bipartite graph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Comic Sans MS"/>
              </a:rPr>
              <a:t>Theorem: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A tree with n vertices has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- 1 edges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Comic Sans MS"/>
              </a:rPr>
              <a:t>Theorem: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The minimum number of nodes of a tree of height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is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+1.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C805-F41A-4F93-9A67-904AA4EAD0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e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amily tree - Bernoull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90720" y="2666880"/>
            <a:ext cx="6705000" cy="3340080"/>
            <a:chOff x="990720" y="2666880"/>
            <a:chExt cx="6705000" cy="3340080"/>
          </a:xfrm>
        </p:grpSpPr>
        <p:sp>
          <p:nvSpPr>
            <p:cNvPr id="115" name=""/>
            <p:cNvSpPr/>
            <p:nvPr/>
          </p:nvSpPr>
          <p:spPr>
            <a:xfrm>
              <a:off x="4038480" y="2666880"/>
              <a:ext cx="175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Nikolau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47400" y="3276720"/>
              <a:ext cx="1066680" cy="60948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3962520"/>
              <a:ext cx="18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Johann 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480" y="3276720"/>
              <a:ext cx="1218960" cy="60948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9560" y="396252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Jacob 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285640" y="4648320"/>
              <a:ext cx="380520" cy="76176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548640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Nikolaus I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81280" y="4572000"/>
              <a:ext cx="533160" cy="91440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548640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Johann I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9177-8016-4663-8765-1013DAABA8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.R.K. Krishna Rao</dc:creator>
  <dc:description/>
  <dc:language>en-US</dc:language>
  <cp:lastModifiedBy>ICS</cp:lastModifiedBy>
  <dcterms:modified xsi:type="dcterms:W3CDTF">2003-06-30T05:30:00Z</dcterms:modified>
  <cp:revision>144</cp:revision>
  <dc:subject/>
  <dc:title>PowerPoint Presentation</dc:title>
</cp:coreProperties>
</file>